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520A-7BB8-442D-88F1-614C788D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7237-9AC2-4EA1-ABA7-6B97E240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7947-7D65-45FE-AFA0-D632F16C1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0092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708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0092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708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5500-ACDE-4FDF-B202-FE2D7EFA6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48C8-BE7C-4526-829A-C37909F9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8C80-6CC5-45B4-9F4B-C874BB3C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9C8C-60D2-4B5A-BE6E-8E4EF1E5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8DD5-7160-493A-88B6-897B2AD6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86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09CE-9254-4907-BDB8-5A064243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52D8-25FA-45C4-9785-1E52CD40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5814-B977-4AE6-BB96-62AF3AF8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DBF8-50E5-437F-9B7C-B7E1995C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anuel Kö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20"/>
          <p:cNvSpPr/>
          <p:nvPr/>
        </p:nvSpPr>
        <p:spPr>
          <a:xfrm>
            <a:off x="228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1"/>
          <p:cNvSpPr/>
          <p:nvPr/>
        </p:nvSpPr>
        <p:spPr>
          <a:xfrm>
            <a:off x="0" y="0"/>
            <a:ext cx="1752480" cy="695124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56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22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inanz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CFA5-96C1-4C07-B44C-D57F4070AAA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anuel Kö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inanz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815A-5755-4F2D-983F-D6F995000A6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oliennummernplatzhalter 3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19BE-37D6-4245-A3B5-0CC0A5297E8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057400" y="178596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3333cc"/>
                </a:solidFill>
                <a:latin typeface="Arial"/>
              </a:rPr>
              <a:t>Finanz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057400" y="274320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allstu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erstellt v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öll Manu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910330040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n,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3681360" y="319932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091033004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anuel Kö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inanz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9AC6-E88C-45BB-BC02-73372FAB1F9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Theor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er Finanzplan ist für die Planung und Steuerung aller ein- und ausgehenden Zahlungsströme zuständig d.h. er gibt eine genaue Übersicht über die momentane Finanzlage im Betrieb und stellt sicher, dass geplante Investitionen auch getätigt werden kö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Er ist wichtig um eine Insolvenz zu vermeiden, da er die Liquidität erhä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Basiert auf Unterplänen (Investitions-,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Vertriebs-, Produktionsplan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6477120" y="5357880"/>
          <a:ext cx="2666880" cy="11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5357880"/>
                    <a:ext cx="266688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anuel Kö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inanz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CD2F-CF88-4525-9169-7285E502ACA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Anga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Max Mustermann verdient im Monat 1.800€ Netto. Ende Juni und Ende November erhält er zusätzlich 1.800€ 13. und 14. Geha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Er zahlt monatlich Miete in Höhe von 400€, Strom 80€ und Telefonkosten 40€. Die Versicherung für das Auto wird in Halbjahres-abständen beginnend im Februar in Höhe von 400€ bezahlt. Im Juli will er seinen Eltern ein Geschenk machen und kauft ihnen einen Swimmingpool (2750€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Aufgabe: Erstellen Sie den Finanzplan für Herrn Mustermann für das ganze Jah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anuel Kö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inanz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9DB7-A3A9-4361-976B-EB6FB9853D8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Lös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1317600" y="1500120"/>
          <a:ext cx="7674120" cy="22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7600" y="1500120"/>
                    <a:ext cx="7674120" cy="22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5"/>
          <p:cNvGraphicFramePr/>
          <p:nvPr/>
        </p:nvGraphicFramePr>
        <p:xfrm>
          <a:off x="2143080" y="4014720"/>
          <a:ext cx="6676920" cy="254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3080" y="4014720"/>
                    <a:ext cx="66769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21:17:53Z</dcterms:created>
  <dc:creator>Daniel Franz Leutgeb</dc:creator>
  <dc:description/>
  <dc:language>en-US</dc:language>
  <cp:lastModifiedBy>Manuel</cp:lastModifiedBy>
  <dcterms:modified xsi:type="dcterms:W3CDTF">2010-04-17T16:56:22Z</dcterms:modified>
  <cp:revision>2115</cp:revision>
  <dc:subject/>
  <dc:title>PowerPoint-Präsentation</dc:title>
</cp:coreProperties>
</file>