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1EBF6-29C5-4E7A-8B37-1E52D350CFED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37672-C415-466A-B956-5D3E88E010BF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3D954-1AF1-4248-A802-8F1F866BBA62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530C1-1BA6-4F2B-9D7F-69ABEDBC2007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8E5CE-8B07-40C9-AAB6-CAED697CF28B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8BB-CF58-4433-AEB1-946AE265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5120" y="3837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995-4BA5-43F9-BC64-EC891E43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464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DB8-6822-472F-899E-395C92C4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20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528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512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20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528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786-9643-4BA2-AD7E-F4875737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289-B6C9-47C9-A486-AEE0F116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5A4-ECAC-4191-BB12-361C388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18C-0FD4-40A6-B082-3A754AB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677-298E-4038-A291-1ADF78D6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152280"/>
            <a:ext cx="70833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EA9-13B8-47C1-B337-FCE1889A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83A-D71D-4D44-8846-01C05C3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464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E19-DC30-4047-B221-036C2A3B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35B-FA32-4943-ABE9-2415CE5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120" y="65530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5656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6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5640" y="6553080"/>
            <a:ext cx="19047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1640" y="64767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FE3981-CAAD-454E-AA5A-D2F5850DB2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umsplatzhalter 1"/>
          <p:cNvSpPr/>
          <p:nvPr/>
        </p:nvSpPr>
        <p:spPr>
          <a:xfrm>
            <a:off x="1752480" y="6553080"/>
            <a:ext cx="19018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wn Menh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ußzeilenplatzhalter 2"/>
          <p:cNvSpPr/>
          <p:nvPr/>
        </p:nvSpPr>
        <p:spPr>
          <a:xfrm>
            <a:off x="7236000" y="6553080"/>
            <a:ext cx="1904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igh Yield Bon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oliennummernplatzhalter 3"/>
          <p:cNvSpPr/>
          <p:nvPr/>
        </p:nvSpPr>
        <p:spPr>
          <a:xfrm>
            <a:off x="4572000" y="647712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2670D-A7F9-4E99-BE1F-619D7EAD1F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E71A9-3A3C-4714-A1EC-D7FDD15FB7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High Yield Bo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wn Menh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8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4.04.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umsplatzhalter 3"/>
          <p:cNvSpPr/>
          <p:nvPr/>
        </p:nvSpPr>
        <p:spPr>
          <a:xfrm>
            <a:off x="1752480" y="6553080"/>
            <a:ext cx="19018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wn Menham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Fußzeilenplatzhalter 4"/>
          <p:cNvSpPr/>
          <p:nvPr/>
        </p:nvSpPr>
        <p:spPr>
          <a:xfrm>
            <a:off x="7236000" y="6553080"/>
            <a:ext cx="1904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igh Yield Bon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Foliennummernplatzhalter 5"/>
          <p:cNvSpPr/>
          <p:nvPr/>
        </p:nvSpPr>
        <p:spPr>
          <a:xfrm>
            <a:off x="4572000" y="647712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2E3D4-20C6-4A99-9B26-72805B0724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63480" indent="-66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Yield Bonds aka. Junk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ittenten mit schlechtem Rating (Bonitätserfordernisse werden nicht eingehal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ngfristige Finanzierung (&gt;5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hes Risi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Überdurchschnittlich hohe Zi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stehung für die Finanzierung von Unternehmensüber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wendung heute: bei Geldnot / spekulativen Über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s Ergebnis: Tilgung oder Kon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umsplatzhalter 3"/>
          <p:cNvSpPr/>
          <p:nvPr/>
        </p:nvSpPr>
        <p:spPr>
          <a:xfrm>
            <a:off x="1752480" y="6553080"/>
            <a:ext cx="19018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wn Menh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ußzeilenplatzhalter 4"/>
          <p:cNvSpPr/>
          <p:nvPr/>
        </p:nvSpPr>
        <p:spPr>
          <a:xfrm>
            <a:off x="7236000" y="6553080"/>
            <a:ext cx="1904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igh Yield Bon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oliennummernplatzhalter 5"/>
          <p:cNvSpPr/>
          <p:nvPr/>
        </p:nvSpPr>
        <p:spPr>
          <a:xfrm>
            <a:off x="4572000" y="647712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E7244-4DCA-45C4-9BA2-D6827E12D3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71520" y="142920"/>
            <a:ext cx="581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Effektivzinssat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71440" y="1928520"/>
            <a:ext cx="672948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Unternehmen POPO Sitzmöbel erhält ein Angebot bei einem High Yield Investmentfond Geld zu investieren. Bei einer Laufzeit von 8 Jahren ist der Nominalzinssatz 12%. Der Rückzahlungskurs beträgt 95€ und der Emissionskurs beträgt 100€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ürde das Unternehmen bei einer Bank investieren, würden sie einen Marktzins von 10% erhal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entiert es sich für das Unternehmen bei dem Investmentfond zu investier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mr09b022\Desktop\big_butt_chair.jpg"/>
          <p:cNvPicPr/>
          <p:nvPr/>
        </p:nvPicPr>
        <p:blipFill>
          <a:blip r:embed="rId1"/>
          <a:stretch/>
        </p:blipFill>
        <p:spPr>
          <a:xfrm>
            <a:off x="1357200" y="142920"/>
            <a:ext cx="2408400" cy="17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umsplatzhalter 3"/>
          <p:cNvSpPr/>
          <p:nvPr/>
        </p:nvSpPr>
        <p:spPr>
          <a:xfrm>
            <a:off x="1752480" y="6553080"/>
            <a:ext cx="19018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wn Menh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Fußzeilenplatzhalter 4"/>
          <p:cNvSpPr/>
          <p:nvPr/>
        </p:nvSpPr>
        <p:spPr>
          <a:xfrm>
            <a:off x="7236000" y="6553080"/>
            <a:ext cx="1904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igh Yield Bon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Foliennummernplatzhalter 5"/>
          <p:cNvSpPr/>
          <p:nvPr/>
        </p:nvSpPr>
        <p:spPr>
          <a:xfrm>
            <a:off x="4572000" y="647712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9A702-6479-4F8E-B2E1-76AAE7A9DA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= 8 Jahre; i = 12%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K = 95€; EK = 1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uch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… Effektivzinss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1,375% &gt; 8% daher würde sich die Investition bei Investmentfond loh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5214960" y="1928880"/>
                <a:ext cx="31989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2168640" y="3786120"/>
                <a:ext cx="50194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€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€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€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mr09b022</cp:lastModifiedBy>
  <dcterms:modified xsi:type="dcterms:W3CDTF">2010-04-26T13:34:23Z</dcterms:modified>
  <cp:revision>2107</cp:revision>
  <dc:subject/>
  <dc:title>PowerPoint-Präsentation</dc:title>
</cp:coreProperties>
</file>