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ACD-8AB4-4618-90FB-8D225CBE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119-13A2-4562-B2B2-097738D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426-6316-4CEE-9376-28C22EA0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FB8-2374-4ACE-8299-F752E8FD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A64-6846-4B05-8E32-97B695F4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C5E-D702-467A-B281-2C5A956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5BB-F04A-435F-B560-F11F98A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7C4-2714-4725-9111-13CF122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31E-41C5-453E-BFB5-C1A2285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9DA-A86B-4E66-A670-D80A4B90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6B2-6151-4978-AE90-DCE18EB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37C-D8DC-403F-AA57-E99911B7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A70C-ADAB-4C0D-8765-0053534BC0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chael Widr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hmann-Ruchti-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69B-4306-442D-86AC-58B9B70D9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12CD-1C8F-42A4-9571-C8703C96B6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Kapazitätserweiterungseffe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3333cc"/>
                </a:solidFill>
                <a:latin typeface="Arial"/>
              </a:rPr>
              <a:t>(= Lohmann-Ruchti-Effekt oder Marx-Engels-Effe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hael Widr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chael Widr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hmann-Ruchti-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F98-F0C0-425B-888E-90BF32932D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53 von M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hman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H.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ucht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argestellt (aber bereits in „Das Kapital“ von K. Marx und F. Engels beschrieb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Funktionsweis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auf von weiteren Anlagen wird durch Werte aus den Abschreibungen finanz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ffek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ögliche Erhöhung des Outputs und der Anzahl der Anlagen (aber keine Erhöhung der Gesamtkapazitä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Voraussetz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aufender Ankauf von Anlagen bei konstant bleibenden Pr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rste Finanzierung der Anlagen über Eigenk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bschreibungen über Umsatzeinnahmen finanz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rweiterung des Umlaufvermögens (Rohstoffvorräte usw.) wird nicht aus den Abschreibungen finanz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chael Widr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hmann-Ruchti-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18E-0BC2-4D83-9C0C-85A9AE0C53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werden 20 Maschinen zu jeweils 5000€ angekauft. Nach 5 Jahren Nutzungsdauer sind sie als wertlos anzusehen. (Die Abschreibung pro Maschine soll konstante1000€ jährlich betrag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hoch ist der Bestand an Maschinen im 11. Jah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viele freie freigesetzte Mittel (bei einer kommenden Investition von 0€) stehen für das 12. Jahr zur Verfüg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ichael Widri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hmann-Ruchti-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6B2B-43B9-4FBB-8BEC-F3286AF2E9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52480" y="1285920"/>
          <a:ext cx="7239240" cy="4143240"/>
        </p:xfrm>
        <a:graphic>
          <a:graphicData uri="http://schemas.openxmlformats.org/drawingml/2006/table">
            <a:tbl>
              <a:tblPr/>
              <a:tblGrid>
                <a:gridCol w="522360"/>
                <a:gridCol w="803160"/>
                <a:gridCol w="878040"/>
                <a:gridCol w="804960"/>
                <a:gridCol w="1243080"/>
                <a:gridCol w="1023840"/>
                <a:gridCol w="1022400"/>
                <a:gridCol w="941400"/>
              </a:tblGrid>
              <a:tr h="34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triebsmit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bschreibung (laufendes Ja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igesetzte Mit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ug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bg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sgesa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vest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Textfeld 7"/>
          <p:cNvSpPr/>
          <p:nvPr/>
        </p:nvSpPr>
        <p:spPr>
          <a:xfrm>
            <a:off x="2071800" y="555300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wort:</a:t>
            </a:r>
            <a:r>
              <a:rPr b="1" lang="de-AT" sz="1800" spc="-1" strike="noStrike">
                <a:solidFill>
                  <a:srgbClr val="000000"/>
                </a:solidFill>
                <a:latin typeface="Times New Roman"/>
              </a:rPr>
              <a:t> Im 11. Jahr herrscht ein Bestand von 32 Maschinen, wobei 34.000 € an freien freigesetzten Mitteln zur Verfügung steh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jemand</cp:lastModifiedBy>
  <dcterms:modified xsi:type="dcterms:W3CDTF">2010-04-16T15:08:39Z</dcterms:modified>
  <cp:revision>2106</cp:revision>
  <dc:subject/>
  <dc:title>PowerPoint-Präsentation</dc:title>
</cp:coreProperties>
</file>