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95D-84A1-40FB-9250-5522E27A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6E6-9443-4EF1-ADE4-B8E2A6A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489-513D-4B24-AE85-D9A66F2F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92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7080" y="13712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476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92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7080" y="3839040"/>
            <a:ext cx="22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AEE-ECEC-487E-93AC-6E9C2F01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A62-420F-470F-87B0-1524B90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9E8-C1F3-47BA-B1FE-DDEE5A51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968-EE54-42BE-BD83-044EE351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89C-9BC1-4A50-8CF6-2C2B508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B73-038E-4F98-A11A-2C78E1FA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67C-CDCD-4C21-BC09-65AF20F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6080" y="38390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40A-7DDC-48EA-85E2-9F07DD1A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6080" y="1371240"/>
            <a:ext cx="3458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4760" y="3839040"/>
            <a:ext cx="7086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288-D72A-42F8-916C-FC07D34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1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2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6000" y="6553080"/>
            <a:ext cx="190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1F3F-4311-4313-8B3A-2C98BE21AF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omas Michael E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BEE6-D7CB-49AB-A44C-69D1579256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liennummernplatzhalter 3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ED4-FFFA-4C19-A017-E65564F2BA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Amortisationsrechnung (rechn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omas Michael E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rechnung (rechner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omas Michael E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7236000" y="64008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rechnung (rechner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96C5-2FD8-4E5A-BCC5-73DEEA28E7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dient der Ermittlung der Kapitalbindungsdauer einer Invest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zwei Methoden der Amortisationsrechnung: die Durchschnittsmethode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umulative Amortisations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Durchschnittsmethode wird angewandt, wenn der jährliche finanzielle Rückfluss in gleicher Höhe anfäll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KE= Kapitaleinsatz, Anschaffungskosten + Anschaffungsnebenkosten (Investit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W = Restwert, Restwert am Ende der Nutzungsdau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vZ= jährlicher Gewinn vor Zins = jährlicher Gewinn nach Zins + kalkulatorische Zin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fA=jährlicher Abschreibungsbetr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=Amortisationszeit in Jah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umulative Methode wird gebraucht, wenn die jährlichen Rückflüsse unterschiedlich hoch s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138560" y="3643200"/>
            <a:ext cx="1866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omas Michael E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685800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vergleichsrechn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rechner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945-25DE-4E63-B818-2FBCA4E662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Firma Öhler, hat sich um 50.000,- € eine Drehmaschine mit Fräskopf gekau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schine wird 5 Jahre lang genutzt und erwirtschaftet Einnahmen von 10.000.-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anderen Seite müssen 8.000.-€ aufgewendet werden um die Maschine am laufen zu 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7"/>
          <p:cNvSpPr/>
          <p:nvPr/>
        </p:nvSpPr>
        <p:spPr>
          <a:xfrm>
            <a:off x="17524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omas Michael Eg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3786-DBB4-4D76-A087-0F81FC6ED4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fa= Anschaffungswert/ Nutzungsd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50.000/ 5= 10.000.-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vz= Einnahmen-Ausgaben: 10.000.- - 8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=(KE-RW)/(Gvz+A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50.000-0)/(2.000+10.000)=4,16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Maschine hat sich nach 4,16 Jahre amortis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7083360" y="6324480"/>
            <a:ext cx="19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mortisationsrechnung (rechnerisc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Thomas Michael Egger</cp:lastModifiedBy>
  <dcterms:modified xsi:type="dcterms:W3CDTF">2010-04-19T17:18:30Z</dcterms:modified>
  <cp:revision>2113</cp:revision>
  <dc:subject/>
  <dc:title>PowerPoint-Präsentation</dc:title>
</cp:coreProperties>
</file>