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3475-888B-4714-8D7F-4A3AF816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8ECF-F6C1-4B83-A3C1-18926AFD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6D8-9B25-4DC7-A2AE-00FDD76F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A42-29A7-41EC-B431-ADD8EE8F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5B7-BD08-4C5C-B7FE-B478DF23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25E2-2445-4BFF-B62C-930F68C8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D43-C137-48AE-945C-41723019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395-4D0F-4E6F-8FC0-E4C5849F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E633-59D1-4896-A508-8B83A678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D96D-F807-4CBA-8DD0-6F700355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BE2-31E0-4A03-8AC7-27C80BDD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0FA1-9774-472A-96EE-19E3A83B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6040-DD68-4E21-8EDD-BDE47F57047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efan Weißenstei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apazitätsfreisetzungseffe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EFB4-BA7C-4F6B-B64F-EA76279E4B3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7449-778A-4564-82E3-44CA72642BD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T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apazitätsfreisetzungseffe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fan Weißenste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081033004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efan Weißenstei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apazitätsfreisetzungseffe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EDF5-1885-4CD1-A6EB-AE6B211821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 die jährliche Abschreibung von abnutzbarem Anlagevermögen wird das Anfangs zu 100% gebundene Kapital Schritt für Schritt wieder freigesetz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s zu dem Zeitpunkt, in dem z.B. eine Anlage ersetzt werden muss, können mit dem freigesetzten Kapital andere Investitionen getätig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efan Weißenstei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apazitätsfreisetzungseffe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90E1-07B8-45F7-B7A0-7EAB2094CD2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as Unternehmen Merida kauft in fünf aufeinanderfolgenden Jahren je eine Maschine zu 1000€. Man rechnet mit einer linearen Nutzungsdauer von je 5 Jahren. Die jährliche Abschreibung bet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gt daher pro Maschine 200€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Abschreibung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000€ : 5 = 20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efan Weißenstei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apazitätsfreisetzungseffe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0034-1804-44BC-9CB1-BD8D64B7A95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905120" y="1413000"/>
          <a:ext cx="7086600" cy="4508280"/>
        </p:xfrm>
        <a:graphic>
          <a:graphicData uri="http://schemas.openxmlformats.org/drawingml/2006/table">
            <a:tbl>
              <a:tblPr/>
              <a:tblGrid>
                <a:gridCol w="1515960"/>
                <a:gridCol w="377640"/>
                <a:gridCol w="865440"/>
                <a:gridCol w="865080"/>
                <a:gridCol w="866880"/>
                <a:gridCol w="865080"/>
                <a:gridCol w="865080"/>
                <a:gridCol w="865440"/>
              </a:tblGrid>
              <a:tr h="39888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hinen-anz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ährliche Abschreib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e Mit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nvestitio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igesetzte Mit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435"/>
          <p:cNvSpPr/>
          <p:nvPr/>
        </p:nvSpPr>
        <p:spPr>
          <a:xfrm>
            <a:off x="1905120" y="5921280"/>
            <a:ext cx="695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Bei gleich bleibendem Maschinenbestand werden ab dem vierten Jahr jährlich 2000€ an liquiden Mitteln frei und man spricht von Kapazitätsfreisetzungseffek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stefan weißensteiner</dc:creator>
  <dc:description/>
  <dc:language>en-US</dc:language>
  <cp:lastModifiedBy>ITS</cp:lastModifiedBy>
  <dcterms:modified xsi:type="dcterms:W3CDTF">2010-04-26T08:31:01Z</dcterms:modified>
  <cp:revision>2104</cp:revision>
  <dc:subject/>
  <dc:title>PowerPoint-Präsentation</dc:title>
</cp:coreProperties>
</file>