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977D-15A5-4183-A8EC-78D34BD65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04760" y="42375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14D3-FD4E-4BAF-A59E-CF254C914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6080" y="13716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04760" y="42375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36080" y="42375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E38E-CB25-4294-87BA-DC91F7110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00920" y="13716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7080" y="137160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04760" y="42375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00920" y="42375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7080" y="4237560"/>
            <a:ext cx="228168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C3E9-C57C-4697-AAC9-CC7D3FCC5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04760" y="13716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00F7-3331-42B0-95A7-A4B7DC2B94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80DA-E07A-4567-B65C-221AC7673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36080" y="13716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9071-6EE8-42A4-91B0-7B2743BE7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48CA-79C6-41B0-BC1C-8AC5E2B52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04760" y="-360"/>
            <a:ext cx="7086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E0CF-1CC7-47B5-B9F1-39B1E26AD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6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04760" y="42375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095B-327A-489A-A10D-7B8F10A55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816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36080" y="13716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36080" y="423756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D23F-3B08-4F9B-A458-F8EA4961A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6080" y="1371600"/>
            <a:ext cx="345816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04760" y="4237560"/>
            <a:ext cx="7086600" cy="2616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4834-C175-4491-AB90-70D61E740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6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366880" y="64771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D7E4-DC48-499F-9500-D4E580FD82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752480" y="655308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2743200"/>
            <a:ext cx="762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1752480" cy="68500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7440" y="655308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589040"/>
            <a:ext cx="6781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Annuität eines später z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Verfügung stehenden Betr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743200"/>
            <a:ext cx="678168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io C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091033008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672F-C2D1-41F4-B9D9-B9FE314D98F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655308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743200"/>
            <a:ext cx="762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52480" cy="68500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7440" y="655308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21932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rechnung eines zu einem späteren Zeitpunkt fälligen Betrags in einen davor liegenden Zahlungsstrom jährlich gleich hoher Zahlungsbeträge (Annuitäte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 Restwertverteilungsfaktor verwandelt eine „Einmalzahlung nach n Jahren“ in eine Zahlungsrei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stwertverteilungsfaktor (RWF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WF = (q - 1) / (q</a:t>
            </a:r>
            <a:r>
              <a:rPr b="1" lang="en-US" sz="1500" spc="-1" strike="noStrike" baseline="32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1)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K x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q - 1) / (q</a:t>
            </a:r>
            <a:r>
              <a:rPr b="1" lang="en-US" sz="1500" spc="-1" strike="noStrike" baseline="32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 [q = 1+i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......Zahlungen (Euro/Jah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K.....Kapital zu Laufzeitende (Eur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.......Zinssatz (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......Laufzeit  (Jahr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1840" y="4711680"/>
            <a:ext cx="209232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71640" y="4869000"/>
            <a:ext cx="1955880" cy="60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EE11-99C3-4013-B835-95A296459C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655308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743200"/>
            <a:ext cx="762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752480" cy="68500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7440" y="655308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0720" y="133344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am Ende des 5. Jahres von einem Unternehmen bereitzustellender Geldbetrag von 20.000 € wird auf Wunsch des Berechtigten zuvor in 5 gleichen Raten zum Jahresen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gezahlt.Berechne die jährliche Rate die der Berechtigte bei  einem Zinssatz von 8% erhä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4F87-1E15-442B-A715-9614747C4D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52480" y="655308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743200"/>
            <a:ext cx="762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1752480" cy="68500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7440" y="6553080"/>
            <a:ext cx="190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9520" y="1371600"/>
            <a:ext cx="70866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K x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q - 1) / (q</a:t>
            </a:r>
            <a:r>
              <a:rPr b="1" lang="en-US" sz="1500" spc="-1" strike="noStrike" baseline="32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27280" y="2924280"/>
            <a:ext cx="5334120" cy="69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5120" y="518148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3AE4-848B-453E-92E1-C351ABADDCF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 Franz Leutgeb</dc:creator>
  <dc:description/>
  <cp:keywords/>
  <dc:language>en-US</dc:language>
  <cp:lastModifiedBy>ITS</cp:lastModifiedBy>
  <dcterms:modified xsi:type="dcterms:W3CDTF">2010-04-26T10:00:25Z</dcterms:modified>
  <cp:revision>2</cp:revision>
  <dc:subject/>
  <dc:title>PowerPoint-Präsentation</dc:title>
</cp:coreProperties>
</file>