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F9F-7D70-4DDB-8CF9-AC759DB1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BF7-D49C-461D-B98E-F015DFAC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7AA-36D1-4E0B-9BC8-38467F8A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A91-A93E-463A-8C7A-3889665A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1C2-C813-4035-97C2-18B35D19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6B1-86B7-4440-B038-E7B81638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968-3DCD-4E0F-AD12-B7955370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C3B-FF4E-415E-8D06-654531FA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79B-0181-4BCD-8F5E-3381E695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EFE-F652-416D-B4C2-4675B340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868-D8EC-45F5-8FEB-B3C8A19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86D-0955-4679-9977-E5D902C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98EE-9F15-457C-9BF9-5A63B17045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a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terialeinsatzproduktivitä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5023-C153-4B1B-97A4-2F81089ECE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087B-413A-4844-9439-447D29CA8B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Materialeinsatzproduktivitä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ennifer Ja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8.4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0" y="4786200"/>
            <a:ext cx="2000160" cy="1500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a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terialeinsatzproduktivitä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D6BC-5A84-48AB-B992-759745F2AA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: Produktivität=Leistung/Ein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 einzelne Maßzahl keine Aussage-&gt;Vergl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ogen auf gewisse Peri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einsatzproduktivität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te Menge/Materialeinsatzm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ionsbetrieb - Material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0-50%-&gt;größter Kosten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effizienz erhöhen indem man Materialeinsatz reduz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ringerung des Ausschusses: Reduktion des Verschni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mierung der Produktkonstr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kung der Energie- und Entsorgungsko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a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terialeinsatzproduktivitä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0ECF-2509-4DF9-9460-2A4AB921BE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Firma „Good night“ hat im Jahr 2008 212.000 Reinfederpolster produziert und insgesamt 381.600kg Federn benöt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Jahr 2009 hat das Management eine Reduktion der Füllmenge beschlossen und für 243.000 Polster  388.800kg Federn benöt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ird die Materialeinsatzproduktivität berechnet und wie hoch war sie in den Jahren 2008 und 2009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ieg die Materialeinsatzproduktivität von 2008 auf 2009, oder sank s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715080" y="4786200"/>
            <a:ext cx="19623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04760" y="12952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terialeffizienz ist im Jahr 2009 höher als im Jahr 2008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atumsplatzhalter 3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a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ußzeilenplatzhalter 4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aterialeinsatzproduktivitä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liennummernplatzhalter 5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BEF-323C-4EC2-8668-FF2E28152F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1"/>
          <a:stretch/>
        </p:blipFill>
        <p:spPr>
          <a:xfrm>
            <a:off x="2214720" y="1643040"/>
            <a:ext cx="5762520" cy="561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8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1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"/>
          <p:cNvPicPr/>
          <p:nvPr/>
        </p:nvPicPr>
        <p:blipFill>
          <a:blip r:embed="rId2"/>
          <a:stretch/>
        </p:blipFill>
        <p:spPr>
          <a:xfrm>
            <a:off x="1928880" y="2687760"/>
            <a:ext cx="6786360" cy="441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7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8" descr=""/>
          <p:cNvPicPr/>
          <p:nvPr/>
        </p:nvPicPr>
        <p:blipFill>
          <a:blip r:embed="rId3"/>
          <a:stretch/>
        </p:blipFill>
        <p:spPr>
          <a:xfrm>
            <a:off x="1928880" y="3449520"/>
            <a:ext cx="67863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Jenny</cp:lastModifiedBy>
  <dcterms:modified xsi:type="dcterms:W3CDTF">2010-04-18T09:21:33Z</dcterms:modified>
  <cp:revision>2122</cp:revision>
  <dc:subject/>
  <dc:title>PowerPoint-Präsentation</dc:title>
</cp:coreProperties>
</file>