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8172-BD95-4E0F-8E68-5D46AA2EAD8F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30B0-4BC7-47E6-86B8-38A161971017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800-E558-476F-AE9D-19C27FED3B66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CC40-87AC-4CF6-8A70-6DCB1FF678CC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BD4-110F-41D2-9526-D541F6D4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5BE-F2EA-4F0C-8262-B9169D7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8F9-B31C-40DF-A7C4-4831FFF3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98A-EA84-45F5-A1E7-0A595E9F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E26-51DD-4167-9F8B-3F086DB2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5D2-194F-49B8-B73E-9785345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FEF-8CF8-41BB-BCA8-613E4F6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04E-CEF5-4236-B26D-FEA08C7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AD8-BFC8-4EEC-B9B3-E554931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8D9-D398-4171-A057-99B6C41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01C-67C0-4F9D-B86E-22B9EB7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290-D327-451B-9F87-642373B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ro B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EEF-E634-45E8-BD39-FA30319108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ro B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18EB-D977-43DE-9D77-78DB80447B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D38-8BF4-49C4-AAA7-CA794D1683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Zero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20330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2120" y="1214280"/>
            <a:ext cx="7239240" cy="12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ero Bond ist eine Sonderform des festverzinslichen Wertpapiers (=Anleihe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rteile fü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ro B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AAD-6F76-4B7A-891C-58B36A6460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Inhaltsplatzhalter 7"/>
          <p:cNvSpPr/>
          <p:nvPr/>
        </p:nvSpPr>
        <p:spPr>
          <a:xfrm>
            <a:off x="1752480" y="2571840"/>
            <a:ext cx="3467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leiheschuldner</a:t>
            </a:r>
            <a:br>
              <a:rPr sz="26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nanzierung günstiger als Kreditaufnahme über ein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Gerade Verbindung 10"/>
          <p:cNvSpPr/>
          <p:nvPr/>
        </p:nvSpPr>
        <p:spPr>
          <a:xfrm>
            <a:off x="1757520" y="3013200"/>
            <a:ext cx="7386480" cy="0"/>
          </a:xfrm>
          <a:prstGeom prst="line">
            <a:avLst/>
          </a:prstGeom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Gerade Verbindung 13"/>
          <p:cNvSpPr/>
          <p:nvPr/>
        </p:nvSpPr>
        <p:spPr>
          <a:xfrm>
            <a:off x="5372280" y="2617920"/>
            <a:ext cx="0" cy="1407960"/>
          </a:xfrm>
          <a:prstGeom prst="line">
            <a:avLst/>
          </a:prstGeom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Inhaltsplatzhalter 7"/>
          <p:cNvSpPr/>
          <p:nvPr/>
        </p:nvSpPr>
        <p:spPr>
          <a:xfrm>
            <a:off x="5168880" y="2571840"/>
            <a:ext cx="3905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leger</a:t>
            </a:r>
            <a:br>
              <a:rPr sz="26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alt von höheren Zinsen als beim Sparbuch - gleichzeitig hohe Sicher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57520" y="4149720"/>
            <a:ext cx="7238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ie Tilgung der Zero Bond ist endfällig und es gibt keine laufenden Zinszahlunge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Ertrag = Differenz zws. Nennwert und Barwe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 + i 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Gerade Verbindung 24"/>
          <p:cNvSpPr/>
          <p:nvPr/>
        </p:nvSpPr>
        <p:spPr>
          <a:xfrm>
            <a:off x="1757520" y="4025880"/>
            <a:ext cx="7386480" cy="0"/>
          </a:xfrm>
          <a:prstGeom prst="line">
            <a:avLst/>
          </a:prstGeom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Gerade Verbindung 25"/>
          <p:cNvSpPr/>
          <p:nvPr/>
        </p:nvSpPr>
        <p:spPr>
          <a:xfrm>
            <a:off x="1757520" y="2617920"/>
            <a:ext cx="7386480" cy="0"/>
          </a:xfrm>
          <a:prstGeom prst="line">
            <a:avLst/>
          </a:prstGeom>
          <a:ln w="38160">
            <a:solidFill>
              <a:srgbClr val="0099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5397480"/>
            <a:ext cx="3384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 u="sng">
                <a:solidFill>
                  <a:srgbClr val="000000"/>
                </a:solidFill>
                <a:uFillTx/>
                <a:latin typeface="Times New Roman"/>
              </a:rPr>
              <a:t>Legende: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= Kapital zum Zeitpunkt 0 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7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= Kapital am Ende der Laufzeit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Times New Roman"/>
              </a:rPr>
              <a:t>i= Zinssatz; n= Laufze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ro B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88EB-EB5B-4866-99BA-928A44FAEE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Elektrizitätsgesellschaft möchte die Errichtung eines Kraftwerkes, für di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UR 1 Mrd. benötigt werden, über die Emission einer Null-Kuponanleihe (Zero Bond) finanzieren. Die Laufzeit beträgt 8 Jahr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Emissionskurs 100% und d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lgungskurs 18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echnen Sie die Verzinsung dieses Zero-Bo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atih Mas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Zero Bo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BA3-6086-4FAA-9709-6E9A1BAFE1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4760" y="5214600"/>
            <a:ext cx="708660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zinsung des Zero Bonds beträgt 7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949400" y="1407960"/>
                <a:ext cx="2651040" cy="36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ad>
                          <m:deg>
                            <m:r>
                              <m:t xml:space="preserve">8</m:t>
                            </m:r>
                          </m:deg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078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,8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Fatih</cp:lastModifiedBy>
  <dcterms:modified xsi:type="dcterms:W3CDTF">2010-04-26T09:10:51Z</dcterms:modified>
  <cp:revision>2125</cp:revision>
  <dc:subject/>
  <dc:title>PowerPoint-Präsentation</dc:title>
</cp:coreProperties>
</file>