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1F6-21B6-4F8F-95B7-A8F78634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BC-1E8F-4D87-A55E-C47E4443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F97-EB20-47DB-A2DF-0CCC9061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641-3B16-4769-9EFB-4862020A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7A0-EA94-467C-86F0-CE01C1B9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7A8-CCDC-4BCA-9622-271C8F8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91B-AE9B-4996-8B44-5075031A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541-E085-4A74-B2ED-06257A8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9F3-1985-4156-8890-AD25B4B8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D8-08D7-42EE-9D67-E5A17F3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E3B-79B0-443D-AF0C-FA311BC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686-BB22-4D12-8F90-52CC10E8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utz Stef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agendeck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65F-C6BC-47EA-810D-9AE72F9134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FEA-E4AB-4060-942B-7C881A7A86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gendec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1. und 2. G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utz Ste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810330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396-0FC3-4040-9B33-994210EB6E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ennziffer der Bilanz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eckung des Anlagevermö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700" spc="-1" strike="noStrike">
                <a:solidFill>
                  <a:srgbClr val="000000"/>
                </a:solidFill>
                <a:latin typeface="Arial"/>
              </a:rPr>
              <a:t>durch Eigenkapital (Grad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700" spc="-1" strike="noStrike">
                <a:solidFill>
                  <a:srgbClr val="000000"/>
                </a:solidFill>
                <a:latin typeface="Arial"/>
              </a:rPr>
              <a:t>durch Eigenkapital und langfristiges Fremdkapital (Grad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oldene Reg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orm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gebnis in Prozent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Rectangle 16"/>
              <p:cNvSpPr txBox="1"/>
              <p:nvPr/>
            </p:nvSpPr>
            <p:spPr>
              <a:xfrm>
                <a:off x="3494160" y="4218120"/>
                <a:ext cx="32385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lagendeckung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kapi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lagevermöge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27280" y="3141720"/>
            <a:ext cx="5616720" cy="1008000"/>
          </a:xfrm>
          <a:prstGeom prst="rect">
            <a:avLst/>
          </a:prstGeom>
          <a:solidFill>
            <a:srgbClr val="ffcc00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nlagevermögen sollte durch Eigenk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oder langfristige Kredite gedeckt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Rectangle 16"/>
              <p:cNvSpPr txBox="1"/>
              <p:nvPr/>
            </p:nvSpPr>
            <p:spPr>
              <a:xfrm>
                <a:off x="3492360" y="4792680"/>
                <a:ext cx="5070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lagendeckung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kapit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angfristiges_Fremdkapi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lagevermöge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9D8-8260-40BE-9163-2953C8D22B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35280" y="2247840"/>
          <a:ext cx="7238880" cy="4133520"/>
        </p:xfrm>
        <a:graphic>
          <a:graphicData uri="http://schemas.openxmlformats.org/drawingml/2006/table">
            <a:tbl>
              <a:tblPr/>
              <a:tblGrid>
                <a:gridCol w="2232000"/>
                <a:gridCol w="1388880"/>
                <a:gridCol w="2211480"/>
                <a:gridCol w="1406520"/>
              </a:tblGrid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äftsausstat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zeichnetes K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nvor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alrück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guthab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esgewi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kred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ferverbindlichkei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ückstell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k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k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835280" y="1413000"/>
            <a:ext cx="69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erechnen sie die Anlagendeckung 1. und 2. Gr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FC9-C31C-4330-80B7-DD70635A3F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Rectangle 16"/>
              <p:cNvSpPr txBox="1"/>
              <p:nvPr/>
            </p:nvSpPr>
            <p:spPr>
              <a:xfrm>
                <a:off x="1835280" y="1413000"/>
                <a:ext cx="6981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lagendeckung_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_Grad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905120" y="2133720"/>
            <a:ext cx="68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lagendeckung 1 &lt; 100%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400" spc="-1" strike="noStrike">
                <a:solidFill>
                  <a:srgbClr val="cc0000"/>
                </a:solidFill>
                <a:latin typeface="Arial"/>
              </a:rPr>
              <a:t>Unterde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oldene Regel nicht erfü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Rectangle 16"/>
              <p:cNvSpPr txBox="1"/>
              <p:nvPr/>
            </p:nvSpPr>
            <p:spPr>
              <a:xfrm>
                <a:off x="1835280" y="3789360"/>
                <a:ext cx="723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lagendeckung_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_Grad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905120" y="4606920"/>
            <a:ext cx="68436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lagendeckung 2 &gt; 100%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AT" sz="2400" spc="-1" strike="noStrike">
                <a:solidFill>
                  <a:srgbClr val="cc0000"/>
                </a:solidFill>
                <a:latin typeface="Arial"/>
              </a:rPr>
              <a:t>Überdec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oldene Regel erfül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nlagevermögen komplett durch Eigenkapital und langfristiges Fremdkapital finanzier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7B2-4883-45B0-89F3-B626C46B1A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4-15T16:09:57Z</dcterms:modified>
  <cp:revision>2102</cp:revision>
  <dc:subject/>
  <dc:title>PowerPoint-Präsentation</dc:title>
</cp:coreProperties>
</file>