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3E1-DD96-4BE7-A58B-A80D586E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2AD-7C47-4280-A6B1-9A545EEB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96E-ABFF-43D1-99D7-C5F7F10E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87B-3A10-4A07-AE82-D3CE7A01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E28-1A99-46BC-81F2-7F412050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428-728F-47F3-B79C-B83F3E63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212-EE6C-467D-B642-DF567265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F10-C7DD-4681-8235-4FC083BF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AB3-1675-4ACA-B534-166ED34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D60-5C15-4408-8135-401193A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314-93F2-4AFD-92BE-370B1FB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1A9-88F1-4BC8-910A-F5C31894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C403-B105-4081-83EC-C685DD955E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oman Leh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stdarle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072E-21FF-4682-A079-C0B35177F4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3664-1F21-4DD2-AD49-72F6D304DA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Festdarle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man Leh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oman Leh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stdarle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2B0-7F7B-4984-A94B-B2470137E8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der gesamten Laufzeit sind nur die Zinsen des aufgenommenen Darlehens abzubezah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 am Ende der vereinbarten Zeit wird die Tilgung, die dem Betrag des Darlehens entspricht, begli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oman Leh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stdarle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0C49-CA7C-4C26-ABDB-8EB522CEC2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oe Credit möchte sich ein gebrauchtes Auto zum Preis von 6000€ kau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 er knapp bei Kasse ist, greift ihm seine Oma unter die Arme und schließt einen Bausparvertrag ab, mit dem er nach 6 Jahren die 6000€ ausbezahlt bekomm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oe kann jedoch nicht so lange warten und entschließt sich deshalb für ei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Festdarleh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der höhe vo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6000€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einer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Laufzeit von 6 J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einer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erzinsung von 5% jährlic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e viel muss Joe Credit von seiner eigenen Tasche bezah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oman Leh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stdarle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A155-2871-41FC-B773-CBDEA8C953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rlehen (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= Tilgung (T) = 60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Wird vom Bausparvertrag beglich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rlehen (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 x Zinssatz (i) = Zinszahlung 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000€ x 5% = 3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 Jahre Laufzeit, da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nszahlung (z) x Laufzeit (n) = Zinszahlung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00€ x 5 (Jahre) = 15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 bezahlt somit insgesamt 1500€ selb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Van</cp:lastModifiedBy>
  <dcterms:modified xsi:type="dcterms:W3CDTF">2010-04-16T17:02:43Z</dcterms:modified>
  <cp:revision>2114</cp:revision>
  <dc:subject/>
  <dc:title>PowerPoint-Präsentation</dc:title>
</cp:coreProperties>
</file>