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758-9484-49A5-9144-266073CC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C02-6EFD-4D7F-90E5-A1D0E2B4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4F3-BE84-46F2-8744-BEA4A8CA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55F-D873-4F6D-B3FD-A502F904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1ED-BF11-4194-8C80-6F0FA852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28B-9BA5-4830-8440-0571E365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3F5-6DBD-4F76-9EBF-3C1AFC18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30C-BD74-472A-90CA-86427EA6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292-54BB-4E4E-9E54-EA86BFB9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33D-A40C-4C4A-BA94-410E12E5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5E8-85CF-488C-BF38-80353202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874-0B8F-49F6-95B8-591301AE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29DC-836E-4EC2-9576-E92ED94342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RNG Franz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pitalwert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BFC8-ECDC-4201-8349-5234D3067B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A97C-8BA5-4573-9739-4F1B6C6B3E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Kapitalwertmeth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ERNG Fra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0910330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RNG Fra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pitalwert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382E-A467-4091-903A-D1269897FF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verbundenen Zahl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- und Auszahl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runter fallen: Liquidationserlös und Investitionsausg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 Nutzungsperiode verz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absoluten Wert über Vorteilhaftigkeit 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 Kapitalwert (engl. net present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pitalwert &gt; 0 :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pitalwert = 0 : Investition exakt verz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pitalwert &lt; 0 : unwirtschaft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lativer Vergleich verschiedener Investi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RNG Fra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pitalwert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4328-63E4-4528-A86D-43148C18CC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iFlight-Fluggesellschaft überlegt die Aufstockung ihrer Kurzstreckenflotte um 2 Flugmaschinen. Maschine 1 verursacht 160 Mio € an Investition und einen Liquidationserlös von 18 Mio €. Maschine 2 mit 132 Mio. € und 10 Mio 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2016 werden folgende Einzahlungsüberschüsse erzie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 Maschine ist nach ihrem Kapitalwert, bei einem internen Zinsfuß von 16%, vorteilhaf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357280" y="3357720"/>
          <a:ext cx="6096240" cy="2225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hin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hin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RNG Fra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apitalwert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8ACE-DB75-4828-91C2-DE752D9AB9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7"/>
          <p:cNvGraphicFramePr/>
          <p:nvPr/>
        </p:nvGraphicFramePr>
        <p:xfrm>
          <a:off x="4114800" y="3321000"/>
          <a:ext cx="9144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32100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2214720" y="1413000"/>
                <a:ext cx="200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2254320" y="2558880"/>
                <a:ext cx="65786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2252520" y="3857760"/>
                <a:ext cx="6608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1"/>
              <p:cNvSpPr txBox="1"/>
              <p:nvPr/>
            </p:nvSpPr>
            <p:spPr>
              <a:xfrm>
                <a:off x="2252520" y="3038400"/>
                <a:ext cx="12621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feld 11"/>
          <p:cNvSpPr/>
          <p:nvPr/>
        </p:nvSpPr>
        <p:spPr>
          <a:xfrm>
            <a:off x="2214720" y="209700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Maschin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feld 12"/>
          <p:cNvSpPr/>
          <p:nvPr/>
        </p:nvSpPr>
        <p:spPr>
          <a:xfrm>
            <a:off x="2214720" y="345744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Maschine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2"/>
              <p:cNvSpPr txBox="1"/>
              <p:nvPr/>
            </p:nvSpPr>
            <p:spPr>
              <a:xfrm>
                <a:off x="2252520" y="4335480"/>
                <a:ext cx="12765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feld 14"/>
          <p:cNvSpPr/>
          <p:nvPr/>
        </p:nvSpPr>
        <p:spPr>
          <a:xfrm>
            <a:off x="2208240" y="5143680"/>
            <a:ext cx="62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Beide Maschinen wären laut Kapitalwert vorteilhaft. Maschine 1 hat jedoch den höheren Kapitalwert, deshalb wird diese Investition vorgezo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Windows User</cp:lastModifiedBy>
  <dcterms:modified xsi:type="dcterms:W3CDTF">2010-04-26T15:30:07Z</dcterms:modified>
  <cp:revision>2117</cp:revision>
  <dc:subject/>
  <dc:title>PowerPoint-Präsentation</dc:title>
</cp:coreProperties>
</file>