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4"/>
          </p:nvPr>
        </p:nvSpPr>
        <p:spPr>
          <a:xfrm>
            <a:off x="3886200" y="868644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A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1BEA78-E212-4069-BA7A-0622ED70D5F8}" type="slidenum"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FDE9-FDB6-4007-9A5C-77A197198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5120" y="136440"/>
            <a:ext cx="708336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5120" y="1371240"/>
            <a:ext cx="708336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05120" y="3837240"/>
            <a:ext cx="708336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C46A-B307-4291-861C-43810E044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5120" y="136440"/>
            <a:ext cx="708336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905120" y="1371240"/>
            <a:ext cx="345636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34640" y="1371240"/>
            <a:ext cx="345636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905120" y="3837240"/>
            <a:ext cx="345636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34640" y="3837240"/>
            <a:ext cx="345636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5F32-3CA9-44EF-8CA5-69605649B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05120" y="136440"/>
            <a:ext cx="708336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905120" y="1371240"/>
            <a:ext cx="228060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00200" y="1371240"/>
            <a:ext cx="228060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95280" y="1371240"/>
            <a:ext cx="228060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905120" y="3837240"/>
            <a:ext cx="228060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00200" y="3837240"/>
            <a:ext cx="228060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95280" y="3837240"/>
            <a:ext cx="228060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BBB0-E725-48D4-B730-570B7400B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5120" y="136440"/>
            <a:ext cx="708336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905120" y="1371240"/>
            <a:ext cx="7083360" cy="472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2FD6-8D96-4C1D-BF65-5CDBC2999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5120" y="136440"/>
            <a:ext cx="708336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05120" y="1371240"/>
            <a:ext cx="708336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C4A5-A888-4018-8CC4-6240341F5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5120" y="136440"/>
            <a:ext cx="708336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905120" y="1371240"/>
            <a:ext cx="345636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34640" y="1371240"/>
            <a:ext cx="345636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F824-8F84-434E-B834-E2F0A9501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5120" y="136440"/>
            <a:ext cx="708336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319C-0712-444A-ABFB-1483598B8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905120" y="136440"/>
            <a:ext cx="708336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5BA5-A9C6-4448-98E6-52FE7BA17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5120" y="136440"/>
            <a:ext cx="708336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905120" y="1371240"/>
            <a:ext cx="345636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34640" y="1371240"/>
            <a:ext cx="345636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905120" y="3837240"/>
            <a:ext cx="345636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99A6-0AD0-4064-A12C-4247EBFD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05120" y="136440"/>
            <a:ext cx="708336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905120" y="1371240"/>
            <a:ext cx="345636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34640" y="1371240"/>
            <a:ext cx="345636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34640" y="3837240"/>
            <a:ext cx="345636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E5A7-8899-40F3-AEB9-CF9DF659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05120" y="136440"/>
            <a:ext cx="708336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05120" y="1371240"/>
            <a:ext cx="345636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34640" y="1371240"/>
            <a:ext cx="345636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905120" y="3837240"/>
            <a:ext cx="708336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0C57-C1C7-46A3-AEEA-9A300A5E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5120" y="136440"/>
            <a:ext cx="708336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5120" y="1371240"/>
            <a:ext cx="708336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52120" y="6553080"/>
            <a:ext cx="19018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1752480" cy="695124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00565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219320"/>
            <a:ext cx="914400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7235640" y="6553080"/>
            <a:ext cx="190476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571640" y="64767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7DC8A5-4753-4C1C-BCA2-CA69298DCEF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5797EC-3F1A-42B8-B28C-541A8089FB5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57400" y="1785960"/>
            <a:ext cx="6781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3600" spc="-1" strike="noStrike">
                <a:solidFill>
                  <a:srgbClr val="3333cc"/>
                </a:solidFill>
                <a:latin typeface="Arial"/>
              </a:rPr>
              <a:t>Discount Bo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57400" y="2743200"/>
            <a:ext cx="67816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allstud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erstellt vo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resa Melch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r09b08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n, 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ount Bon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99F8-63C1-484D-AE2B-EA4BD8878B2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eresa Melchart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Theori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04760" y="1371600"/>
            <a:ext cx="7086600" cy="481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günstig für Anle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6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Nominalzins liegt meist weit unter dem Marktzi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6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wird zum Ausgleich stark unter pari ausgegeben und zum Nominalwert zurückbezah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6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(=&gt; hohes Disagi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6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meist lange Laufze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6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teuerliche Vorte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ount Bon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70F1-C2F6-4B66-954B-A3FCD886848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eresa Melchart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Beispiel: Angab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04760" y="1371600"/>
            <a:ext cx="7086600" cy="481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ie Pleasure Sextoy AG benötigt für die Fertigentwicklung, Produktion und großräumige Vermarktung eines revolutionären Gerätes rasch finanzielle Mittel und gibt daher einen Discount Bond mit folgenden Konditionen au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Laufzeit: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20 Jah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Nominalzinssatz: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1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Emissionskurs: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45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Rückzahlungskurs: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6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Berechnen Sie den Effektivzinssatz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für einen potentiellen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Anleihezeichner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ount Bon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F60A-1F50-4D10-A34C-D0A97DC4370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eresa Melchart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Beispiel: Lös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904760" y="1371600"/>
            <a:ext cx="7086600" cy="481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Effektivzinssatz beträgt 8,33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2340000" y="2673360"/>
                <a:ext cx="280836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ffektivzinssat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,0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0,45</m:t>
                            </m:r>
                          </m:num>
                          <m:den>
                            <m:r>
                              <m:t xml:space="preserve">20</m:t>
                            </m:r>
                          </m:den>
                        </m:f>
                      </m:num>
                      <m:den>
                        <m:r>
                          <m:t xml:space="preserve">0,45</m:t>
                        </m:r>
                      </m:den>
                    </m:f>
                    <m:r>
                      <m:t xml:space="preserve">∗</m:t>
                    </m:r>
                    <m:r>
                      <m:t xml:space="preserve">100</m:t>
                    </m:r>
                    <m:r>
                      <m:t xml:space="preserve">=</m:t>
                    </m:r>
                    <m:r>
                      <m:t xml:space="preserve">8,3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2340000" y="1773360"/>
                <a:ext cx="483408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ffektivzinssat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ominalzinssatz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Rückzahlungskurs</m:t>
                            </m:r>
                            <m:r>
                              <m:t xml:space="preserve">−</m:t>
                            </m:r>
                            <m:r>
                              <m:t xml:space="preserve">Emissionskurs</m:t>
                            </m:r>
                          </m:num>
                          <m:den>
                            <m:r>
                              <m:t xml:space="preserve">Laufzeit</m:t>
                            </m:r>
                          </m:den>
                        </m:f>
                      </m:num>
                      <m:den>
                        <m:r>
                          <m:t xml:space="preserve">Emissionskurs</m:t>
                        </m:r>
                      </m:den>
                    </m:f>
                    <m:r>
                      <m:t xml:space="preserve">∗</m:t>
                    </m:r>
                    <m: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ount Bon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0F87-BAFD-4E01-A628-368DC2A25AC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eresa Melchart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9T21:17:53Z</dcterms:created>
  <dc:creator>Daniel Franz Leutgeb</dc:creator>
  <dc:description/>
  <dc:language>en-US</dc:language>
  <cp:lastModifiedBy>ITS</cp:lastModifiedBy>
  <dcterms:modified xsi:type="dcterms:W3CDTF">2010-02-17T10:17:05Z</dcterms:modified>
  <cp:revision>2097</cp:revision>
  <dc:subject/>
  <dc:title>PowerPoint-Präsentation</dc:title>
</cp:coreProperties>
</file>