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388620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28D07-5396-4002-8EC5-8E987F8C792F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99C-CE0F-4859-B331-E94F6E7E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15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15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6880"/>
            <a:ext cx="70815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EBD-24E7-4D2D-A38E-4C7303F2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15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56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3560" y="1371600"/>
            <a:ext cx="34556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6880"/>
            <a:ext cx="34556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3560" y="3836880"/>
            <a:ext cx="34556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962-7F08-4605-992C-01BADACA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15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22798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99120" y="1371600"/>
            <a:ext cx="22798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3120" y="1371600"/>
            <a:ext cx="22798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6880"/>
            <a:ext cx="22798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99120" y="3836880"/>
            <a:ext cx="22798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3120" y="3836880"/>
            <a:ext cx="227988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199-87C5-410A-8BD5-6AA829BF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15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600"/>
            <a:ext cx="708156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50D-4809-4D9D-A912-231B960A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15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156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C66-C5CF-4335-894F-7CB88323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15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56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3560" y="1371600"/>
            <a:ext cx="34556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05C-09E8-4836-90DB-A91F6ABE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15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74C-139C-4443-8997-FDBB5488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36440"/>
            <a:ext cx="70815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E77-79ED-470A-B8F7-CB0DEC05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15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56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3560" y="1371600"/>
            <a:ext cx="34556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6880"/>
            <a:ext cx="34556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BE4-90AA-40A4-965F-144FDA47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15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564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3560" y="1371600"/>
            <a:ext cx="34556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3560" y="3836880"/>
            <a:ext cx="34556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53B-1561-485F-8DCC-ECF912FC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15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34556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3560" y="1371600"/>
            <a:ext cx="34556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6880"/>
            <a:ext cx="70815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0CF-9026-4A7B-ABB1-F87BBD4A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36440"/>
            <a:ext cx="70815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600"/>
            <a:ext cx="708156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120" y="6552720"/>
            <a:ext cx="1900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5640" y="6552720"/>
            <a:ext cx="1903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077F3-C4A9-4C0D-A2E0-93F2F48D3A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AD035-4E94-45E9-BAE3-F3EE59D70E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Liquidität 1. Gr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efan J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3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42F-FDCE-484B-86FE-CE426B5D56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134640"/>
            <a:ext cx="7086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Theori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i der Liquidität 1. Grades werden die flüssigen Mittel und die kurzfristigen Verbindlichkeiten ins Verhältnis gesetz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00080" y="2562120"/>
          <a:ext cx="7015320" cy="4271760"/>
        </p:xfrm>
        <a:graphic>
          <a:graphicData uri="http://schemas.openxmlformats.org/drawingml/2006/table">
            <a:tbl>
              <a:tblPr/>
              <a:tblGrid>
                <a:gridCol w="1308240"/>
                <a:gridCol w="2859120"/>
                <a:gridCol w="2847960"/>
              </a:tblGrid>
              <a:tr h="892080"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rt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ßnah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220400"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lungsfähigkeit gefährd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710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fnahme von langfristigen Bankkred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229760">
                <a:tc>
                  <a:txBody>
                    <a:bodyPr lIns="0" rIns="0" tIns="6372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6372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 dieser Deckung ist die Zahlungsfähigkeit nicht gefährd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29520">
                <a:tc>
                  <a:txBody>
                    <a:bodyPr lIns="0" rIns="0" tIns="6372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6372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Überdeck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uell langfristige Veranlag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26B-F155-49BF-A161-9CE0FEC523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e Fritz Flüssig eU ist ein auf Wasseraufbereitungsanlagen spezialisiertes Kleinunter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m Stichtag befinden sich 8.000 € in der Kassa, sowie 16.000 € auf dem Bankkonto. Zusätzlich hat der Unternehmen einen Firmenwagen im Wert von 30.000 €. Für diesen sind noch 20.000 € zu zahlen (in 2 Jahren) .  An die Engine AG, welche die Pumpen liefert, müssen 10.000 € bezahlt werden. 30.000 €  sind an diverse Lieferanten in nächster Zeit zu zah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rechnen Sie Die Liquidität 1.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078-693A-46F5-A21E-371BDEA5F1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Lösung + Theorie - Berechn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orm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de-AT" sz="2400" spc="-1" strike="noStrike" u="sng">
                <a:solidFill>
                  <a:srgbClr val="000000"/>
                </a:solidFill>
                <a:uFillTx/>
                <a:latin typeface="Arial"/>
              </a:rPr>
              <a:t>flüssige (liquide) Mittel  x 100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  = Ergebnis in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urzfristiges Fremdk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de-AT" sz="2400" spc="-1" strike="noStrike" u="sng">
                <a:solidFill>
                  <a:srgbClr val="000000"/>
                </a:solidFill>
                <a:uFillTx/>
                <a:latin typeface="Arial"/>
              </a:rPr>
              <a:t>8.000+16.000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   x100  = </a:t>
            </a:r>
            <a:r>
              <a:rPr b="0" lang="de-AT" sz="2400" spc="-1" strike="noStrike" u="sng">
                <a:solidFill>
                  <a:srgbClr val="000000"/>
                </a:solidFill>
                <a:uFillTx/>
                <a:latin typeface="Arial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10.000+3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iquide Mi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assenbe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nkgut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urzfristiges Fremdk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indlichkeiten mit einer Fälligkeit von &lt;1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.B. Verbindlichkeiten an Liefera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FC7-4C04-465E-9743-2041D2CD3D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Stefan Janner</cp:lastModifiedBy>
  <dcterms:modified xsi:type="dcterms:W3CDTF">2010-04-05T10:36:56Z</dcterms:modified>
  <cp:revision>2097</cp:revision>
  <dc:subject/>
  <dc:title>PowerPoint-Präsentation</dc:title>
</cp:coreProperties>
</file>