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F28-3793-4F2A-8AB3-5C729B12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AA1-A5E8-44F7-8B27-08787885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E4B-F1E0-4AD7-91DD-85F5FC08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476-1AA1-4E27-917A-CFA22594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39E-AAA5-4BE3-8057-21DECA36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0C2-607D-4263-9A5F-2FAC6B0A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206-6FFA-48E7-9DA9-BD9F85A5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FDF-3A16-4628-9F9A-5755734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5C9-989F-4AD2-BE17-5C94116B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9C4-CB94-43AB-8AB8-B5E16FF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E70-A978-4C05-BD26-2F8A6C1B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306-D9F1-4FAB-996A-3139181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7EA-B344-4AB3-B559-CF8294320F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E8D9-FBB3-4323-A555-6D91CFF3AD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T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Lombardk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EDER Rai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BBB-31F5-4E76-9C07-D0886543FE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Lombardkredit ist ein Realkredit der durch Pfandrecht an einer beweglichen Sache oder einem verbrieften Recht gesicher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gibt folgende Formen des Lombardkredi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ffektenlombardkredi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mit Wertpapieren, häufigste Form, nochmal 5%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schlag auf Zins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chsellombardkredi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Finanzierung von Wareneinkäufen </a:t>
            </a:r>
            <a:r>
              <a:rPr b="0" lang="de-DE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wird durch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n verkauf der aus der Rohware gefertigten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kte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rückgezahlt, m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eist nur kurzfristig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renlombardkredit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mit War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delmetalllombardkredi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Schmuck, Gold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Unechter Lombardkredit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(Bank hinterlegt Papiere bei Bundesbank, die sie wiederum von Firmen/Privaten hinterlegt bekommen hat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an bekommt nur einen geringen Anteil dessen als Kredit, was das Pfand wert 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Der eingeräumte Kreditrahmen liegt meist bei nur 50% des Wertes. Zusätzlich sind die Zinsen extrem ho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Risikoarm </a:t>
            </a:r>
            <a:r>
              <a:rPr b="0" lang="de-A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für Banken sehr lukrat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Wird heute kaum mehr von Banken vergeben. Dieses Geschäftsmodell findet hauptsächlich nur mehr in Pfandhäusern Anwen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3EB-AF0C-4364-A640-FD615F0A9B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r. No Trust hinterlegt bei der Bank Wertpapiere im Wert von 25.000 euro. Die Bank gibt ihm als Kredit 10.000 euro, die mit  8% monatlich verzinst sind. Er braucht sie um noch mehr Wertpapiere zu kaufen. Nach 3 Monaten ist es ihm möglich den Kredit komplett zurückzuzah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e viel hat No Trust insgesamt gezahl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74C-280C-400C-B45C-202C8666C7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Laufzeit : 3 Mo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Zinsen   : 8% mona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Kredit    : 10.000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Gezahlt                      Zinsen [euro] 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Restbet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.Monat: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800      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. Monat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864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3.Monat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928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   1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Gesamt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592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         1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No Trust zahlt insgesamt 12.592 euro zurü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084-3E9B-4D7B-9AD4-CA75EE9426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ITS</cp:lastModifiedBy>
  <dcterms:modified xsi:type="dcterms:W3CDTF">2010-04-26T10:40:19Z</dcterms:modified>
  <cp:revision>2098</cp:revision>
  <dc:subject/>
  <dc:title>PowerPoint-Präsentation</dc:title>
</cp:coreProperties>
</file>