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5B98-E98F-4957-BD75-6CEEA49F00C0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9C60-E94A-4CDA-8FA7-3A3F62164306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F25-852B-44B6-95B3-295C8A19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F28-E53C-41BF-AA18-91CE34DB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6224-A9EE-4E57-BC80-1451DCDF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5C3-7E9E-4F66-B46B-D0E88A21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DA4-596F-4A56-9A48-232038E8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806-D5AB-4B91-888F-92169B99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731-E858-406B-9458-1A6893E8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D6D-2813-45ED-89D3-1F1F1CF9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194-9D39-47A5-8647-B67DB2D7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870-F35B-4AA1-B271-8FFDF61B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B46-256B-4782-9F62-CFA0A1FE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C3C-FADB-4021-B921-B6B708D7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9ABC-20B8-47F1-8B1B-70CC4C57C1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oachim Hag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neare Programmi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BFBE-7101-4560-800D-646A6E2335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7E64-E809-4EB4-ABDA-50E1DFE255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T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ineare Programm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oachim Hagl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20330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haus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oachim Hag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neare Programmi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DA3E-1B05-4FBD-BAEC-3108630F66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 Lineare Programier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Berechnungsmethode des Operati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 angewendet wenn keine speziellen Lösungsverfahren bekannt s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ion Resea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ilpläne des Investors werden optimal aufeinander abgestimmt. (Investitionsplan, Finanzplan, Produktionspla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feld 19"/>
          <p:cNvSpPr/>
          <p:nvPr/>
        </p:nvSpPr>
        <p:spPr>
          <a:xfrm>
            <a:off x="4572000" y="4844880"/>
            <a:ext cx="35719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4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+ 2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=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2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+ 4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=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2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+ 2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= 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oachim Hag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neare Programmi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2CBF-4695-45B0-B2FE-D04314B7A6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ineare Programmier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905120" y="1371600"/>
          <a:ext cx="7167600" cy="1892160"/>
        </p:xfrm>
        <a:graphic>
          <a:graphicData uri="http://schemas.openxmlformats.org/drawingml/2006/table">
            <a:tbl>
              <a:tblPr/>
              <a:tblGrid>
                <a:gridCol w="1452600"/>
                <a:gridCol w="1357200"/>
                <a:gridCol w="1357200"/>
                <a:gridCol w="1071720"/>
                <a:gridCol w="192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k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k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nh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. Kapazitä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hin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/St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hin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/St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hin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/St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kungs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69" name="Textfeld 7"/>
          <p:cNvSpPr/>
          <p:nvPr/>
        </p:nvSpPr>
        <p:spPr>
          <a:xfrm>
            <a:off x="1752480" y="3263760"/>
            <a:ext cx="6143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= Anzahl der produzierten Mengen von Produk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= Anzahl der produzierten Mengen von Produk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1752480" y="3933720"/>
            <a:ext cx="660564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ckungsbeitrag: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150 X</a:t>
            </a:r>
            <a:r>
              <a:rPr b="0" lang="de-DE" sz="2000" spc="-1" strike="noStrike" u="sng" baseline="-25000">
                <a:solidFill>
                  <a:srgbClr val="ff0000"/>
                </a:solidFill>
                <a:uFillTx/>
                <a:latin typeface="Times New Roman"/>
              </a:rPr>
              <a:t>1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 + 100 X</a:t>
            </a:r>
            <a:r>
              <a:rPr b="0" lang="de-DE" sz="2000" spc="-1" strike="noStrike" u="sng" baseline="-25000">
                <a:solidFill>
                  <a:srgbClr val="ff0000"/>
                </a:solidFill>
                <a:uFillTx/>
                <a:latin typeface="Times New Roman"/>
              </a:rPr>
              <a:t>2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 = Max </a:t>
            </a: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Zielfunk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benbedingun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apazität Maschine 1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4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+ 2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&lt;= 200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apazität Maschine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2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+ 4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&lt;= 200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apazität Maschine 3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2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+ 2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&lt;= 120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feld 9"/>
          <p:cNvSpPr/>
          <p:nvPr/>
        </p:nvSpPr>
        <p:spPr>
          <a:xfrm>
            <a:off x="6913440" y="4229280"/>
            <a:ext cx="19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70c0"/>
                </a:solidFill>
                <a:latin typeface="Times New Roman"/>
              </a:rPr>
              <a:t>Schlupfvariab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Ellipse 16"/>
          <p:cNvSpPr/>
          <p:nvPr/>
        </p:nvSpPr>
        <p:spPr>
          <a:xfrm>
            <a:off x="6913440" y="4857840"/>
            <a:ext cx="444600" cy="428400"/>
          </a:xfrm>
          <a:prstGeom prst="ellipse">
            <a:avLst/>
          </a:prstGeom>
          <a:noFill/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Ellipse 17"/>
          <p:cNvSpPr/>
          <p:nvPr/>
        </p:nvSpPr>
        <p:spPr>
          <a:xfrm>
            <a:off x="6913440" y="5438880"/>
            <a:ext cx="444600" cy="428400"/>
          </a:xfrm>
          <a:prstGeom prst="ellipse">
            <a:avLst/>
          </a:prstGeom>
          <a:noFill/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Ellipse 18"/>
          <p:cNvSpPr/>
          <p:nvPr/>
        </p:nvSpPr>
        <p:spPr>
          <a:xfrm>
            <a:off x="6913440" y="6048360"/>
            <a:ext cx="444600" cy="428760"/>
          </a:xfrm>
          <a:prstGeom prst="ellipse">
            <a:avLst/>
          </a:prstGeom>
          <a:noFill/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Joachim Hagl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neare Programmier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AE0E-E182-45C9-9A2F-56AD2B74088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hteck 47"/>
          <p:cNvSpPr/>
          <p:nvPr/>
        </p:nvSpPr>
        <p:spPr>
          <a:xfrm>
            <a:off x="0" y="1424160"/>
            <a:ext cx="1643040" cy="258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feld 56"/>
          <p:cNvSpPr/>
          <p:nvPr/>
        </p:nvSpPr>
        <p:spPr>
          <a:xfrm>
            <a:off x="-28440" y="1424160"/>
            <a:ext cx="16714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gebnis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.B. = 8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= 40 St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= 20 St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 voll aus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 40 Re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 voll ausg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05120" y="1428840"/>
          <a:ext cx="7086600" cy="1828800"/>
        </p:xfrm>
        <a:graphic>
          <a:graphicData uri="http://schemas.openxmlformats.org/drawingml/2006/table">
            <a:tbl>
              <a:tblPr/>
              <a:tblGrid>
                <a:gridCol w="1012680"/>
                <a:gridCol w="1011240"/>
                <a:gridCol w="1012680"/>
                <a:gridCol w="1013040"/>
                <a:gridCol w="1012680"/>
                <a:gridCol w="1011240"/>
                <a:gridCol w="101304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905120" y="3252960"/>
          <a:ext cx="7086600" cy="461880"/>
        </p:xfrm>
        <a:graphic>
          <a:graphicData uri="http://schemas.openxmlformats.org/drawingml/2006/table">
            <a:tbl>
              <a:tblPr/>
              <a:tblGrid>
                <a:gridCol w="1012680"/>
                <a:gridCol w="1011240"/>
                <a:gridCol w="1012680"/>
                <a:gridCol w="1013040"/>
                <a:gridCol w="1012680"/>
                <a:gridCol w="1011240"/>
                <a:gridCol w="101304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905120" y="3618000"/>
          <a:ext cx="7086600" cy="409320"/>
        </p:xfrm>
        <a:graphic>
          <a:graphicData uri="http://schemas.openxmlformats.org/drawingml/2006/table">
            <a:tbl>
              <a:tblPr/>
              <a:tblGrid>
                <a:gridCol w="1012680"/>
                <a:gridCol w="1011240"/>
                <a:gridCol w="1012680"/>
                <a:gridCol w="1013040"/>
                <a:gridCol w="1012680"/>
                <a:gridCol w="1011240"/>
                <a:gridCol w="1013040"/>
              </a:tblGrid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905120" y="4011480"/>
          <a:ext cx="7086600" cy="409680"/>
        </p:xfrm>
        <a:graphic>
          <a:graphicData uri="http://schemas.openxmlformats.org/drawingml/2006/table">
            <a:tbl>
              <a:tblPr/>
              <a:tblGrid>
                <a:gridCol w="1012680"/>
                <a:gridCol w="1011240"/>
                <a:gridCol w="1012680"/>
                <a:gridCol w="1013040"/>
                <a:gridCol w="1012680"/>
                <a:gridCol w="1011240"/>
                <a:gridCol w="101304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905120" y="4421160"/>
          <a:ext cx="7086600" cy="507960"/>
        </p:xfrm>
        <a:graphic>
          <a:graphicData uri="http://schemas.openxmlformats.org/drawingml/2006/table">
            <a:tbl>
              <a:tblPr/>
              <a:tblGrid>
                <a:gridCol w="1012680"/>
                <a:gridCol w="1011240"/>
                <a:gridCol w="1012680"/>
                <a:gridCol w="1013040"/>
                <a:gridCol w="1012680"/>
                <a:gridCol w="1011240"/>
                <a:gridCol w="10130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905120" y="4786200"/>
          <a:ext cx="6095880" cy="148284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de-D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001000" y="4786200"/>
          <a:ext cx="990720" cy="148284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Admin</cp:lastModifiedBy>
  <dcterms:modified xsi:type="dcterms:W3CDTF">2010-04-22T07:32:07Z</dcterms:modified>
  <cp:revision>2126</cp:revision>
  <dc:subject/>
  <dc:title>PowerPoint-Präsentation</dc:title>
</cp:coreProperties>
</file>