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452-EDC1-4721-90A3-9FF6B889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F77-1C34-48FA-A374-F900BD17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B41-BA5C-4849-8661-D04CFFA6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8B4-90D6-4C86-93A6-B1FFD119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76F-5E9F-426C-B087-4D98A02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60A-41B8-47C7-AA9A-7ADEA205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6E3-2BA7-42A9-86E3-1D54D0A1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AF1-CAE5-48CA-A1F0-BC4C840F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CCA-ABD0-428D-BC5A-6D3C31D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BB9-1495-4F25-B9B6-1F4DC659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B1E-3D76-4428-A266-E2291977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C6F-3460-45D0-80EE-00C22AF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E136-E242-4704-879A-CF084EC3DC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0114-EB1E-461D-9147-EFD2B32883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Kursbild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chael Krau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mr09b03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rsbildu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2B0-5EE2-49FD-8FE8-F6C5F6A340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chael Krau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Wertpapier ist grundsätzlich eine Urkunde, die ein privates Vermögensrecht verbrieft“ … „für die Ausübung dieses Rechts der Besitz erforderlich ist“ (GRILL/PERCZYNS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e = spez. Wertpapier das einen Firmenanteil verbri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s = Preis des Ak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estlegung der Preise (Kursbildung) durch Börsenmakler (oder Softwar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Angebot / Nachfr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soll der größte mögliche Umsatz unter Berücksicht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Limits (Mindest- &amp; Höchstpreis) erziel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skurs = 1xtägl. / variable Notation = mehr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szusatz gibt Umstände bei Kursbildung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rsbildu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CDD-206D-4515-BA6A-14C9656E6F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chael Krau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Orderbuch der an der Börse notierten Technikum AG finden 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lgende Ein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lligst = Kauf um jedem Kurs (kein Limit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stens = Verkauf zu jedem Kurs (kein Lim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2421000"/>
            <a:ext cx="7086600" cy="159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221000"/>
            <a:ext cx="7086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gab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eln Sie den Einheitskurs (Kurs mit höch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msatz) und geben sie einen Kurszusatz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rsbildu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197-7B2B-410F-8725-3BF81EC69E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chael Krau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907560"/>
            <a:ext cx="70866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heitskursfeststell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reiben aller möglichen Käufe (Angebot) und aller mögl. Verkäu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achfrage) zu den unterschiedlichen Kur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einem Kurs von 267€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Käuf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255+385+80=720St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Verkäuf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195+310+90+245=840St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Umsat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Wie viele Wertpapiere können Besitzer wechsel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7360" y="2684520"/>
            <a:ext cx="6372000" cy="1423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27360" y="4108320"/>
            <a:ext cx="7086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Kurs in € / Käufe in Stk. / Verkäufe in Stk. / Umsatz in Stk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Kurszusatz lautet: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27360" y="4581360"/>
            <a:ext cx="6372000" cy="19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ursbildu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F21-E8CF-4128-A6BE-80B0296F74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chael Kraup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MK</cp:lastModifiedBy>
  <dcterms:modified xsi:type="dcterms:W3CDTF">2010-04-22T09:54:26Z</dcterms:modified>
  <cp:revision>2110</cp:revision>
  <dc:subject/>
  <dc:title>PowerPoint-Präsentation</dc:title>
</cp:coreProperties>
</file>