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DAC0-F2A9-42E1-B5DC-8DF5038C1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7086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904760" y="3839040"/>
            <a:ext cx="7086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E82A-B0B0-409F-8FCB-75E84BFF9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904760" y="38390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36080" y="38390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4F2A-9488-48DE-A1A3-EB81EE141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00920" y="13712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97080" y="13712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904760" y="38390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00920" y="38390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97080" y="38390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71DF-3426-4902-97CE-A80D11EF9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6003-1E79-4E5C-8898-24BCE239A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8878-21CB-455A-B7EF-C14AD137F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D04B-F759-4560-B063-DF586E3B4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E674-09FA-42AB-9002-7BE1117F0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904760" y="152280"/>
            <a:ext cx="7086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6C05-55CD-4BF7-97FB-62B16F51E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904760" y="38390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0B3F-1FC5-4B48-BF3C-4CE29455B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36080" y="38390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159C-9D04-42D8-8C10-0A38F86AA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904760" y="3839040"/>
            <a:ext cx="7086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BFD6-71F3-470D-A04C-F081112AD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7524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20"/>
          <p:cNvSpPr/>
          <p:nvPr/>
        </p:nvSpPr>
        <p:spPr>
          <a:xfrm>
            <a:off x="22860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21"/>
          <p:cNvSpPr/>
          <p:nvPr/>
        </p:nvSpPr>
        <p:spPr>
          <a:xfrm>
            <a:off x="0" y="0"/>
            <a:ext cx="1752480" cy="695124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00565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22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7236000" y="6553080"/>
            <a:ext cx="190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The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CA9BF-3927-4356-AF70-E60E833BC6A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7"/>
          <p:cNvSpPr/>
          <p:nvPr/>
        </p:nvSpPr>
        <p:spPr>
          <a:xfrm>
            <a:off x="17524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29"/>
          <p:cNvSpPr/>
          <p:nvPr/>
        </p:nvSpPr>
        <p:spPr>
          <a:xfrm>
            <a:off x="7236000" y="6553080"/>
            <a:ext cx="19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The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30"/>
          <p:cNvSpPr/>
          <p:nvPr/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A2900-84A0-4CE8-B1B8-74918593308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Foliennummernplatzhalter 3"/>
          <p:cNvSpPr/>
          <p:nvPr/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D64DA-91D4-4BF2-8D36-7A440325D1C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2"/>
          <p:cNvSpPr/>
          <p:nvPr/>
        </p:nvSpPr>
        <p:spPr>
          <a:xfrm>
            <a:off x="2057400" y="1785960"/>
            <a:ext cx="6781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3333cc"/>
                </a:solidFill>
                <a:latin typeface="Arial"/>
              </a:rPr>
              <a:t>Arbeitsproduktivitä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2057400" y="2743200"/>
            <a:ext cx="67816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allstud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 u="sng">
                <a:solidFill>
                  <a:srgbClr val="000000"/>
                </a:solidFill>
                <a:uFillTx/>
                <a:latin typeface="Arial"/>
              </a:rPr>
              <a:t>erstellt vo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vancsics Bernh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091033005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n, 2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17524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29"/>
          <p:cNvSpPr/>
          <p:nvPr/>
        </p:nvSpPr>
        <p:spPr>
          <a:xfrm>
            <a:off x="7236000" y="6553080"/>
            <a:ext cx="19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The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0"/>
          <p:cNvSpPr/>
          <p:nvPr/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5C23D-2777-4CB7-A7D6-E1BBD18A34E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3333cc"/>
                </a:solidFill>
                <a:latin typeface="Arial"/>
              </a:rPr>
              <a:t>Theorie</a:t>
            </a:r>
            <a:br>
              <a:rPr sz="2800"/>
            </a:br>
            <a:r>
              <a:rPr b="0" i="1" lang="de-DE" sz="2800" spc="-1" strike="noStrike">
                <a:solidFill>
                  <a:srgbClr val="3333cc"/>
                </a:solidFill>
                <a:latin typeface="Arial"/>
              </a:rPr>
              <a:t>Arbeitsproduktivitä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Ist der Quotient aus Leistung (Output) und Arbeitseinsatz (Inpu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Maßstab für die Leistungs-Wettbewerbsfähigkei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eines Lan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einer Volkswirtscha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eines Wirtschaftszwei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eines Unternehm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Verbesserung der A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technischer Fortschri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erhöhung des eingesetzten Kapi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verbesserte Ausbildung der Arbeitskräf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eine bessere Ausstattung an Maschinen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Grafik 6" descr=""/>
          <p:cNvPicPr/>
          <p:nvPr/>
        </p:nvPicPr>
        <p:blipFill>
          <a:blip r:embed="rId1"/>
          <a:stretch/>
        </p:blipFill>
        <p:spPr>
          <a:xfrm>
            <a:off x="3657600" y="5429160"/>
            <a:ext cx="3578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7"/>
          <p:cNvSpPr/>
          <p:nvPr/>
        </p:nvSpPr>
        <p:spPr>
          <a:xfrm>
            <a:off x="17524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9"/>
          <p:cNvSpPr/>
          <p:nvPr/>
        </p:nvSpPr>
        <p:spPr>
          <a:xfrm>
            <a:off x="7236000" y="6553080"/>
            <a:ext cx="19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The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30"/>
          <p:cNvSpPr/>
          <p:nvPr/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54CB4-AB21-4D83-AAB9-186FF0D7151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3333cc"/>
                </a:solidFill>
                <a:latin typeface="Arial"/>
              </a:rPr>
              <a:t>Beispiel: Angab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BURN-HARD ROBOTICS AG fertigt im Jahr 2025 in einer 40 Stunden Woche 65 Pfarrboter um ihre, mittlerweile fast gänzlich inhaftierten, Vorgänger zu ersetz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BIG-M ROBOTICS GmbH, ihr direkter Konkurrent, fertigt 130 Pfarrboter in einer Woche, lässt die Maschinen jedoch rund um die Uhr laufen. Nur einmal pro Woche stehen sie für diverse Wartungsarbeiten 8 Stunden sti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Aufgabe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Welcher der beiden Betriebe arbeitet produktiv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3" descr=""/>
          <p:cNvPicPr/>
          <p:nvPr/>
        </p:nvPicPr>
        <p:blipFill>
          <a:blip r:embed="rId1"/>
          <a:stretch/>
        </p:blipFill>
        <p:spPr>
          <a:xfrm>
            <a:off x="2468520" y="4067280"/>
            <a:ext cx="2103480" cy="2485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"/>
          <p:cNvPicPr/>
          <p:nvPr/>
        </p:nvPicPr>
        <p:blipFill>
          <a:blip r:embed="rId2"/>
          <a:stretch/>
        </p:blipFill>
        <p:spPr>
          <a:xfrm>
            <a:off x="2468520" y="4695840"/>
            <a:ext cx="695520" cy="14000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5" descr=""/>
          <p:cNvPicPr/>
          <p:nvPr/>
        </p:nvPicPr>
        <p:blipFill>
          <a:blip r:embed="rId3"/>
          <a:stretch/>
        </p:blipFill>
        <p:spPr>
          <a:xfrm>
            <a:off x="6130800" y="4172040"/>
            <a:ext cx="221004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7"/>
          <p:cNvSpPr/>
          <p:nvPr/>
        </p:nvSpPr>
        <p:spPr>
          <a:xfrm>
            <a:off x="17524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29"/>
          <p:cNvSpPr/>
          <p:nvPr/>
        </p:nvSpPr>
        <p:spPr>
          <a:xfrm>
            <a:off x="7236000" y="6553080"/>
            <a:ext cx="19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The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30"/>
          <p:cNvSpPr/>
          <p:nvPr/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DA5DE-91A4-48F9-9A9F-70D66D76BC7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3333cc"/>
                </a:solidFill>
                <a:latin typeface="Arial"/>
              </a:rPr>
              <a:t>Beispiel: Lösu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(h/w) BHR: 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40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(h/w) BMR: (7x24)-8=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160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P(BHR)= 65/40= 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1,62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P(BMR)=130/160=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0,81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enn man die Arbeitsproduktivität der beiden Betriebe vergleicht sieht man dass BURN-HARD ROBOTICS viel produktiver arbeitet als BIG-M ROBOTICS.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Grafik 6" descr=""/>
          <p:cNvPicPr/>
          <p:nvPr/>
        </p:nvPicPr>
        <p:blipFill>
          <a:blip r:embed="rId1"/>
          <a:stretch/>
        </p:blipFill>
        <p:spPr>
          <a:xfrm>
            <a:off x="2371680" y="1820880"/>
            <a:ext cx="257184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9T21:17:53Z</dcterms:created>
  <dc:creator>Daniel Franz Leutgeb</dc:creator>
  <dc:description/>
  <dc:language>en-US</dc:language>
  <cp:lastModifiedBy>Berni</cp:lastModifiedBy>
  <dcterms:modified xsi:type="dcterms:W3CDTF">2010-04-13T17:24:25Z</dcterms:modified>
  <cp:revision>2113</cp:revision>
  <dc:subject/>
  <dc:title>PowerPoint-Präsentation</dc:title>
</cp:coreProperties>
</file>