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EA0-0FE7-49A4-B54D-932A6783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01E-7C06-4984-B651-ED0F34F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A00-849B-4CF9-AE69-B8910DED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F2F-53A8-4012-96AB-9F0BC019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E63-085A-4534-A3C6-1D36A84B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558-ACAC-4D03-A95B-6D4D259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A87-4539-41C5-BC1B-DCB09E5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556-8E8A-447A-9612-C9A83205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8A6-9051-4AF3-838C-4747299D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C23-71AC-4200-9DE0-6D89F51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1C7-FA48-436D-9A84-B23E1E5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2AA-3312-40CA-B892-FA95469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EBCD-88C5-4552-9BE7-7C6B34AF36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exander 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ndelanlei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2BF-7599-4138-A254-42A0AF6A98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A97-C941-4EB0-886B-9E1A74FC58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Wandelanlei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exander 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exander 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ndelanlei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B7BA-1010-462A-A2A7-FEC9FDBDAB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Wandelanleihe räumt dem Gläubiger die Option ein, sie während einer vorher bestimmten Laufzeit zu einem festgelegten Verhältnis gegen Aktien des entsprechenden Unternehmens zu taus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416320" y="4130640"/>
            <a:ext cx="4705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exander 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ndelanlei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5D7E-E615-4ABE-9992-F7AC12B77D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erwerben eine Wandelanleihe der Firma „Wandleschön“ zum Preis von 1000 €. Als Tauschverhältnis wird 10:1 festgelegt, die Laufzeit beträgt 4 Jahre, der Zinssatz 2%. Zum Kaufzeitpunkt betrug der Aktienkurs 90 €. Am Ende der Frist beträgt er 110 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s ertragreicher, die Anleihe zum Ende der Frist in Aktien umzuwandeln oder auszahlen zu las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Alex\AppData\Local\Microsoft\Windows\Temporary Internet Files\Content.IE5\915KO0ZA\MC900022369[1].wmf"/>
          <p:cNvPicPr/>
          <p:nvPr/>
        </p:nvPicPr>
        <p:blipFill>
          <a:blip r:embed="rId1"/>
          <a:stretch/>
        </p:blipFill>
        <p:spPr>
          <a:xfrm>
            <a:off x="4214880" y="4929120"/>
            <a:ext cx="1827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zahlung nach 4 J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pita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al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* Aufzinsfaktor ^ Laufzeit = Kapita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0 € * 1,02 ^ 4 = 1082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wandlung in 10 Akt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zahl * Kurs = Kapital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* 110 € = 11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ist günstiger, die Anleihe umzuwandel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exander S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andelanlei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358-13EF-4AA0-95F1-283DB6A07E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Alex</cp:lastModifiedBy>
  <dcterms:modified xsi:type="dcterms:W3CDTF">2010-04-26T13:54:04Z</dcterms:modified>
  <cp:revision>2102</cp:revision>
  <dc:subject/>
  <dc:title>PowerPoint-Präsentation</dc:title>
</cp:coreProperties>
</file>