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BD7-FD6A-4E3D-8EEC-9707B1D0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B9A-2592-4BCD-BDA8-79325AE3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32B-708B-4233-AD2A-227F8462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5E3-C0C5-4BE4-B338-24D9DACE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FCA-D0A0-4888-ACB1-0742361D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19A-513C-4499-99B4-A78E1B42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A4B-8797-4A5D-845F-50D7B329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98E-ED10-4EC1-8E8F-E30158AE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A10-8ECE-4FA8-A46D-E7754F27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A3A-FD74-4B69-8B21-8F793B31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DFE-66FD-4266-A434-47C819A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D3C-AEF9-4225-959F-2DAD618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9F6D-2693-412F-B612-478F553DC9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2CB1-8D13-4AEA-B3BE-B13ABDC633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3853-7E5A-46FC-AF28-F88442D260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Working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niel Kakus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1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niel Kakus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F6C-33A4-4FAA-9756-C9D580E413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uppieren 32"/>
          <p:cNvGrpSpPr/>
          <p:nvPr/>
        </p:nvGrpSpPr>
        <p:grpSpPr>
          <a:xfrm>
            <a:off x="2016000" y="3500280"/>
            <a:ext cx="6913800" cy="2714760"/>
            <a:chOff x="2016000" y="3500280"/>
            <a:chExt cx="6913800" cy="2714760"/>
          </a:xfrm>
        </p:grpSpPr>
        <p:sp>
          <p:nvSpPr>
            <p:cNvPr id="56" name="Textfeld 12"/>
            <p:cNvSpPr/>
            <p:nvPr/>
          </p:nvSpPr>
          <p:spPr>
            <a:xfrm>
              <a:off x="2016000" y="4044240"/>
              <a:ext cx="3240000" cy="1922760"/>
            </a:xfrm>
            <a:prstGeom prst="rect">
              <a:avLst/>
            </a:prstGeom>
            <a:solidFill>
              <a:srgbClr val="63fd63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Vorrä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Forder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Wertpapi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Ka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Bankguthab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feld 13"/>
            <p:cNvSpPr/>
            <p:nvPr/>
          </p:nvSpPr>
          <p:spPr>
            <a:xfrm>
              <a:off x="5437800" y="4207680"/>
              <a:ext cx="3492000" cy="825480"/>
            </a:xfrm>
            <a:prstGeom prst="rect">
              <a:avLst/>
            </a:prstGeom>
            <a:solidFill>
              <a:srgbClr val="fc2c2c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diverse Verbindlichkei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(Lieferanten, Banken, et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feld 14"/>
            <p:cNvSpPr/>
            <p:nvPr/>
          </p:nvSpPr>
          <p:spPr>
            <a:xfrm>
              <a:off x="5432040" y="5380200"/>
              <a:ext cx="3492000" cy="459720"/>
            </a:xfrm>
            <a:prstGeom prst="rect">
              <a:avLst/>
            </a:prstGeom>
            <a:solidFill>
              <a:srgbClr val="fbff47"/>
            </a:solidFill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400" spc="-1" strike="noStrike">
                  <a:solidFill>
                    <a:srgbClr val="000000"/>
                  </a:solidFill>
                  <a:latin typeface="Times New Roman"/>
                </a:rPr>
                <a:t>Working 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feld 15"/>
            <p:cNvSpPr/>
            <p:nvPr/>
          </p:nvSpPr>
          <p:spPr>
            <a:xfrm>
              <a:off x="2482560" y="3500280"/>
              <a:ext cx="27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000000"/>
                  </a:solidFill>
                  <a:latin typeface="Times New Roman"/>
                </a:rPr>
                <a:t>Umlaufvermö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feld 16"/>
            <p:cNvSpPr/>
            <p:nvPr/>
          </p:nvSpPr>
          <p:spPr>
            <a:xfrm>
              <a:off x="5911560" y="3500280"/>
              <a:ext cx="28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400" spc="-1" strike="noStrike">
                  <a:solidFill>
                    <a:srgbClr val="000000"/>
                  </a:solidFill>
                  <a:latin typeface="Times New Roman"/>
                </a:rPr>
                <a:t>kfr. Fremdk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Gerade Verbindung 20"/>
            <p:cNvSpPr/>
            <p:nvPr/>
          </p:nvSpPr>
          <p:spPr>
            <a:xfrm>
              <a:off x="5340240" y="3500280"/>
              <a:ext cx="0" cy="27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Gerade Verbindung 22"/>
            <p:cNvSpPr/>
            <p:nvPr/>
          </p:nvSpPr>
          <p:spPr>
            <a:xfrm>
              <a:off x="2030040" y="3962160"/>
              <a:ext cx="6899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"/>
          <p:cNvSpPr/>
          <p:nvPr/>
        </p:nvSpPr>
        <p:spPr>
          <a:xfrm>
            <a:off x="1795320" y="1419120"/>
            <a:ext cx="741996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orking_Capital = Umlaufvermögen – kfr. Verbindlichk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iel: &gt;0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ent der Finanzierung von laufenden Aufwendungen und zum Ausgleich von Schwank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E294-3FEB-42A1-81F2-53BBE36DC7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7"/>
          <p:cNvSpPr/>
          <p:nvPr/>
        </p:nvSpPr>
        <p:spPr>
          <a:xfrm>
            <a:off x="1752480" y="142884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Herr Schmidt hat sich auf den Verkauf von Pools und Poolzubehör spezialisiert. Bei  seiner Bank hat er sich einen Kredit in der Höhe von 52.000€ aufgenommen. Die Lagerbestände haben eine Wert von 250.000€, in der Kassa befinden sich 25.000€ und es sind noch Forderungen in der Höhe von 75.000€ offen. Dem Lieferanten schuldet Herr Schmidt für die letzte Lieferung noch 135.000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Aufgabe: </a:t>
            </a: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Berechnen Sie das Working Capital für Herrn Schmi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A88F-0B25-43E1-BF28-BDBA3A8EAE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feld 6"/>
          <p:cNvSpPr/>
          <p:nvPr/>
        </p:nvSpPr>
        <p:spPr>
          <a:xfrm>
            <a:off x="1928880" y="2214720"/>
            <a:ext cx="650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mlaufvermögen = 250.000€ + 25.000€ + 75.000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Umlaufvermögen = 350.0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kfr. Fremdkapital = 52.000€ + 135.000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kfr. Fremdkapital = 187.0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Working Capital = 350.000€ - 187.0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ing Capital = 163.00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daniel</cp:lastModifiedBy>
  <dcterms:modified xsi:type="dcterms:W3CDTF">2010-04-23T10:11:34Z</dcterms:modified>
  <cp:revision>2127</cp:revision>
  <dc:subject/>
  <dc:title>PowerPoint-Präsentation</dc:title>
</cp:coreProperties>
</file>