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2D29-F3E5-4738-AC6C-BEECF71F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6FA7-9C02-4F7C-BF83-F4EA27DB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CA99-E6A7-484A-89F1-B426987F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889-9A85-433F-B5E5-75345D76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7D7-CDEA-446A-A741-D97B7D9F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2CC-224C-48FE-BAF0-18ACD2DC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6D4-E7BC-4FE4-8123-8A395C20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C2D0-AC3C-494F-A0CC-A3C5866D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F63-DE9E-41D4-912A-B957D1ED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7B32-76A1-4C85-8B9B-2FAC7F99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BB42-25EE-4280-BC6F-1A403ECC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1DD8-05EA-4DF4-8EC9-25856802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D998-C916-4E60-9E77-76275BAE8A5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Junk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quidität 2. Gra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5B65-404D-42D1-B1C2-38F92D54482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427A-D7AB-45D5-A1E4-1F6FCCF3856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Liquidität 2. Gr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unkert Ste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910330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-04-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Junk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quidität 2. Gra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52A0-35BE-4A9B-9546-7998780781F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id Test Ratio, Quick Ratio, EinzugsLiquid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flüssige Mittel: wie bei 1.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fr. Forderungen: Restlaufzeit &lt;1Ja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fr. Verbindlichkeiten: &lt;1Jahr + Rückstell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ielwert: 100-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lleine nicht aussagekräft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905120" y="2000160"/>
                <a:ext cx="70866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quidität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rade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lüssi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ttel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derunge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f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erbindlichkeiten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Junk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quidität 2. Gra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A0D1-BD91-4B9B-8346-C59FED78D6F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ahresabschluss Lenzing AG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üssige Mittel: Kassenbestand, Schecks, Guthaben bei Kreditinstituten: 72,7 M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fr. Forderungen: 104,3 M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fr. Verbindlichkeiten: 127 M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ttp://www.controllingportal.de/Fachinfo/Grundlagen/Kennzahlen/Bilanzbeispie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Junk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quidität 2. Gra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6D1B-86F9-427F-8AA4-DDFC5BEB9C4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&gt; genug Kapital vorhanden um die kurzfristigen Verbindlichkeiten zu de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&gt; evtl. mehr Geld fix anlegen =&gt; Zi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905120" y="1371600"/>
                <a:ext cx="705168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quidität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ades</m:t>
                        </m:r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  <m:r>
                              <m:t xml:space="preserve">,</m:t>
                            </m:r>
                            <m:r>
                              <m:t xml:space="preserve">7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UR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4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U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7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UR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mr09b022</cp:lastModifiedBy>
  <dcterms:modified xsi:type="dcterms:W3CDTF">2010-04-26T00:45:09Z</dcterms:modified>
  <cp:revision>2105</cp:revision>
  <dc:subject/>
  <dc:title>PowerPoint-Präsentation</dc:title>
</cp:coreProperties>
</file>