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F36F-6B32-4E20-8AE6-D9CFA171B92B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de.wikipedia.org/wiki/Alleinstellungsmerkmal" TargetMode="External"/><Relationship Id="rId2" Type="http://schemas.openxmlformats.org/officeDocument/2006/relationships/hyperlink" Target="http://de.wikipedia.org/wiki/Wettbewerb_(Wirtschaft)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ch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Umsatzrendit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genan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 den Umsatz bezogener Gewinnante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Bezug auf 1 € Umsatz verdient hat. Eine Umsatzrendite von 10% bedeutet, dass mit jedem umgesetzten Euro ein Gewinn von 10 Cent erwirtschaftet wur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e für Umsatzrentabilität sind u.a.: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eturn on Sale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 Umsatzverdienstrate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Je größer d. </a:t>
            </a:r>
            <a:r>
              <a:rPr b="0" lang="de-DE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lleinstellungsmerkmal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, desto größer die erzielbare Umsatzrendi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ine schwache Umsatzrendite deutet auf einen hart umkämpften, </a:t>
            </a:r>
            <a:r>
              <a:rPr b="0" lang="de-DE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ettbewerbsintensive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Markt h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876-F286-485F-8D82-0F492DE8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22C-C873-4098-B2D5-B8227067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407-0F6B-4597-AFF1-0E152F10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ABB-8FFE-4263-954C-4878C523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8A1-3C9C-402A-AA2C-48E2EF64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934-6032-4B41-9665-E61A32A6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BE8-A1ED-41ED-BE43-531FDC18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CB0-1ACE-482B-A0CB-1CD481B5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D4D-AD04-4D1C-8357-44406F70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6FB-31BB-4DE1-805B-4C4D33FB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722-0045-428C-ACEF-2D43035D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001-1724-448A-A4F3-051FBF82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4944-26ED-47AB-87E3-0B1917927F2C}" type="datetime">
              <a:rPr b="0" lang="de-DE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E12D-8234-4789-8F7C-A51C214710D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7511-88FA-47FC-9AD4-F664A07AD84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62D2-3621-4513-9788-B49E9ED048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1752480" y="1409760"/>
            <a:ext cx="67820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Rockwell Extra Bold"/>
              </a:rPr>
              <a:t>Umsatzrentabilitä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önegger Si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8.4.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2028-F424-4572-A2C7-CA260C65DF5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 Unicode MS"/>
              </a:rPr>
              <a:t>Kernaussage: Wie viel % des Umsatzes wurden als Gewinn erwirtschaft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 Unicode MS"/>
              </a:rPr>
              <a:t>Richtwer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 Unicode MS"/>
              </a:rPr>
              <a:t>&gt; 5 % </a:t>
            </a:r>
            <a:r>
              <a:rPr b="0" lang="de-A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1200" spc="-1" strike="noStrike">
                <a:solidFill>
                  <a:srgbClr val="000000"/>
                </a:solidFill>
                <a:latin typeface="Arial Unicode MS"/>
              </a:rPr>
              <a:t> sehr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 Unicode MS"/>
              </a:rPr>
              <a:t>1-5 % </a:t>
            </a:r>
            <a:r>
              <a:rPr b="0" lang="de-A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1200" spc="-1" strike="noStrike">
                <a:solidFill>
                  <a:srgbClr val="000000"/>
                </a:solidFill>
                <a:latin typeface="Arial Unicode MS"/>
              </a:rPr>
              <a:t> mit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 Unicode MS"/>
              </a:rPr>
              <a:t>&lt; 1 % </a:t>
            </a:r>
            <a:r>
              <a:rPr b="0" lang="de-A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1200" spc="-1" strike="noStrike">
                <a:solidFill>
                  <a:srgbClr val="000000"/>
                </a:solidFill>
                <a:latin typeface="Arial Unicode MS"/>
              </a:rPr>
              <a:t> schl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 Unicode MS"/>
              </a:rPr>
              <a:t>Prinzipiell: Ziel finanzwirtschaftlicher Füh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Eine steigende Umsatzrentabilität deutet bei unverändertem Verkaufspreis auf eine zunehmende Produktivität im Unternehmen h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fern keine außerordentlichen Faktoren vorliegen, liefert die Umsatzrendite Hinweise auf die Marktstellung eines Unternehme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7020000" y="1773360"/>
            <a:ext cx="212400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5219640" y="2825640"/>
            <a:ext cx="3492720" cy="27799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9F7F-10BC-4A16-B9A1-9A45FD775D5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as Unternehmen Heli-Coil® erwirtschaftet im Jahr 2005 einen Gewinn von 16 Millionen Euro bei einem Umsatz von 236 Millionen E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ach einer Erhöhung der Kapazitäten erwirtschaftet die Firma im Jahr 2009 einen Gewinn von 32 Millionen Euro. Der Umsatz betrug 421 Millionen E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Hat sich die wirtschaftliche Situation in Bezug auf die Umsatzrendite positiv oder negativ veränd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liennummernplatzhalter 5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171F-7B26-4945-B996-1FB488CA13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4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7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1628640"/>
            <a:ext cx="64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5640" y="1295280"/>
                <a:ext cx="63626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msatzrentabilitä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ahresüberschu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Umsatzerlöse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805040" y="2637000"/>
                <a:ext cx="64468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msatzrentabilitä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_Mio_€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6_Mio_€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,7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805040" y="3860640"/>
                <a:ext cx="63882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msatzrentabilitä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9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_Mio_€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1_Mio_€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,6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805040" y="5084640"/>
            <a:ext cx="71866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ie Umsatzrendite haben sich leicht gesteigert, allerdings liegen bei solch massiven Kapazitätsänderungen die Erwartungen hö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ITS</cp:lastModifiedBy>
  <dcterms:modified xsi:type="dcterms:W3CDTF">2010-04-20T14:38:57Z</dcterms:modified>
  <cp:revision>2130</cp:revision>
  <dc:subject/>
  <dc:title>PowerPoint-Präsentation</dc:title>
</cp:coreProperties>
</file>