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CC9F7-7E88-4EF1-BB0D-639933E1C153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117-C669-42F9-B13E-30EE4FDF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FAB-6163-477B-ADB1-7C05FA77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A6D-F68E-46F0-8AF2-6A446D68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020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5280" y="1371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0020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5280" y="3837240"/>
            <a:ext cx="228060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68F-426A-49D3-B6FA-055CD885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DE1-DFF4-4A85-9371-3659E8F7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0D2-83B5-4F50-BB5B-C2D38E6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DAF-D49D-4C2F-8D18-971357A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5AB-34FA-465C-BE95-4E05B8D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152280"/>
            <a:ext cx="70833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478-105B-4CC0-A503-D9E25942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6EF-4CEB-43F3-AC7D-E47FD61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4640" y="3837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EE4-FEC8-4985-9EA0-E3F8811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4640" y="1371240"/>
            <a:ext cx="3456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3837240"/>
            <a:ext cx="7083360" cy="22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DCD-EDD6-47F4-B760-62AEE7D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708336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371240"/>
            <a:ext cx="7083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120" y="65530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752480" cy="695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56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35640" y="6553080"/>
            <a:ext cx="19047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571640" y="64767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FF703-DE7B-4568-9F76-31A7A421E0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AD561-DF13-4B84-9DDE-5B362470CA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178596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600" spc="-1" strike="noStrike">
                <a:solidFill>
                  <a:srgbClr val="3333cc"/>
                </a:solidFill>
                <a:latin typeface="Arial"/>
              </a:rPr>
              <a:t>Gewinnvergleichsrech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74320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llstu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rstellt v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inhard Dissau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091033006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n,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7B3-D483-4588-B120-C41347DAB4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Theor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weiterung der Kostenvergleichs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beziehung der Erlö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ntscheidungskriterium Gewi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satz zur Beurteilung von Ersatz-, Erweiterungs- und Rationalisierungsinvest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zelinvestition (G ≥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ternativvergleich (G</a:t>
            </a:r>
            <a:r>
              <a:rPr b="0" lang="de-AT" sz="20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&gt; G</a:t>
            </a:r>
            <a:r>
              <a:rPr b="0" lang="de-AT" sz="20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atzproblem (G</a:t>
            </a:r>
            <a:r>
              <a:rPr b="0" lang="de-AT" sz="2000" spc="-1" strike="noStrike" baseline="-33000">
                <a:solidFill>
                  <a:srgbClr val="000000"/>
                </a:solidFill>
                <a:latin typeface="Arial"/>
              </a:rPr>
              <a:t>neu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&gt; G</a:t>
            </a:r>
            <a:r>
              <a:rPr b="0" lang="de-AT" sz="2000" spc="-1" strike="noStrike" baseline="-33000">
                <a:solidFill>
                  <a:srgbClr val="000000"/>
                </a:solidFill>
                <a:latin typeface="Arial"/>
              </a:rPr>
              <a:t>akt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icht in Relation zum eingesetzten K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4863960"/>
            <a:ext cx="228600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G = Gewinn (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E = Erlšse (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K = Kosten (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x = Verkaufsmenge (Stü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p = Verkaufspreis (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Kf = Fixkosten (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Kv = variable Kosten (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 Narrow"/>
                <a:ea typeface="BoldItalic"/>
              </a:rPr>
              <a:t>kv = variable Stückkosten (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5018040"/>
            <a:ext cx="4140000" cy="1461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i="1" lang="de-AT" sz="1800" spc="-1" strike="noStrike">
                <a:solidFill>
                  <a:srgbClr val="280099"/>
                </a:solidFill>
                <a:latin typeface="Verdana Bold Italic"/>
                <a:ea typeface="Italic"/>
              </a:rPr>
              <a:t>G </a:t>
            </a:r>
            <a:r>
              <a:rPr b="1" i="1" lang="de-AT" sz="1800" spc="-1" strike="noStrike">
                <a:solidFill>
                  <a:srgbClr val="280099"/>
                </a:solidFill>
                <a:latin typeface="Verdana Bold Italic"/>
                <a:ea typeface="BoldItalic"/>
              </a:rPr>
              <a:t>= </a:t>
            </a:r>
            <a:r>
              <a:rPr b="1" i="1" lang="de-AT" sz="1800" spc="-1" strike="noStrike">
                <a:solidFill>
                  <a:srgbClr val="280099"/>
                </a:solidFill>
                <a:latin typeface="Verdana Bold Italic"/>
                <a:ea typeface="Italic"/>
              </a:rPr>
              <a:t>E </a:t>
            </a:r>
            <a:r>
              <a:rPr b="1" i="1" lang="de-AT" sz="1800" spc="-1" strike="noStrike">
                <a:solidFill>
                  <a:srgbClr val="280099"/>
                </a:solidFill>
                <a:latin typeface="Verdana Bold Italic"/>
                <a:ea typeface="BoldItalic"/>
              </a:rPr>
              <a:t>− </a:t>
            </a:r>
            <a:r>
              <a:rPr b="1" i="1" lang="de-AT" sz="1800" spc="-1" strike="noStrike">
                <a:solidFill>
                  <a:srgbClr val="280099"/>
                </a:solidFill>
                <a:latin typeface="Verdana Bold Italic"/>
                <a:ea typeface="Italic"/>
              </a:rPr>
              <a:t>K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AT" sz="1800" spc="-1" strike="noStrike">
                <a:solidFill>
                  <a:srgbClr val="280099"/>
                </a:solidFill>
                <a:latin typeface="Verdana Bold Italic"/>
                <a:ea typeface="Italic"/>
              </a:rPr>
              <a:t>G = (x× p) − (Kf + (kv × x)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24F-ED95-402C-A0AE-4BBFDD1569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Anga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7086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ufgabe: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Die ROBOCOP GnbR hat eine Produktidee für eine neue Serie und will anhand der Gewinnvergleichsrechnung die Realisierung prüfen.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ktuell: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Personalkosten € 3.900.000, Materialkosten € 2.300.000, Energiekosten € 60.000, kalk. Afa € 430.000, kalk. Zinsen € 500.000 und andere Kosten € 1.250.000. Die Erträge betragen € 10.000.000.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Neu: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Personalkosten € 4.500.000, Materialkosten € 2.500.000, Energiekosten € 80.000, kalk. AfA € 570.000, kalk. Zinsen € 600.000 und andere Kosten € 1.500.000. Die Erträge betragen € 12.25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956-98CB-401B-BD02-A59D28CAD6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800" spc="-1" strike="noStrike">
                <a:solidFill>
                  <a:srgbClr val="3333cc"/>
                </a:solidFill>
                <a:latin typeface="Arial"/>
              </a:rPr>
              <a:t>Beispiel: Lö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001960" y="1327320"/>
          <a:ext cx="6818040" cy="2813040"/>
        </p:xfrm>
        <a:graphic>
          <a:graphicData uri="http://schemas.openxmlformats.org/drawingml/2006/table">
            <a:tbl>
              <a:tblPr/>
              <a:tblGrid>
                <a:gridCol w="2601720"/>
                <a:gridCol w="2347920"/>
                <a:gridCol w="1868400"/>
              </a:tblGrid>
              <a:tr h="317520"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€ 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ativ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nativ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17520">
                <a:tc>
                  <a:txBody>
                    <a:bodyPr lIns="90000" rIns="90000" tIns="18000" bIns="46800" anchor="ctr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rä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579320"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ko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ko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ko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k. A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k. Zin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stige Ko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7520">
                <a:tc>
                  <a:txBody>
                    <a:bodyPr lIns="90000" rIns="90000" tIns="18000" bIns="46800" anchor="ctr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o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.4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7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17520">
                <a:tc>
                  <a:txBody>
                    <a:bodyPr lIns="90000" rIns="90000" tIns="18000" bIns="46800" anchor="ctr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Gewi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8000" bIns="46800" anchor="ctr">
                      <a:noAutofit/>
                    </a:bodyPr>
                    <a:p>
                      <a:pPr algn="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1979640" y="4680000"/>
            <a:ext cx="6840360" cy="1224000"/>
          </a:xfrm>
          <a:prstGeom prst="rect">
            <a:avLst/>
          </a:prstGeom>
          <a:noFill/>
          <a:ln w="3600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 diesem Fall ist die Alternative B zu wählen, da wir trotz höherer Kosten voraussichtlich einen höheren Gewinn erwarten kö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m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07A-3B66-4C61-9271-71666C09C4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ame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21:17:53Z</dcterms:created>
  <dc:creator>Daniel Franz Leutgeb</dc:creator>
  <dc:description/>
  <dc:language>en-US</dc:language>
  <cp:lastModifiedBy>ITS</cp:lastModifiedBy>
  <dcterms:modified xsi:type="dcterms:W3CDTF">2010-02-17T10:17:05Z</dcterms:modified>
  <cp:revision>2097</cp:revision>
  <dc:subject/>
  <dc:title>PowerPoint-Präsentation</dc:title>
</cp:coreProperties>
</file>