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DA17-D87D-4F38-9904-1B27A394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A2B-1225-4468-970E-B7FFDB5B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AC0-DF8C-4BE2-81CE-DE424060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C3F-85BB-4486-B3B4-4FFB228C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132-4143-4769-9100-EDC542E5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C28-8A94-42E7-85A1-9BFA9A85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D92-5275-489A-AE23-BE019767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55F-D523-409A-9983-891D9377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F9B-AD19-4693-90ED-C5C261FE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ED8-96BB-4911-A1DA-937707E7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75E-4BAD-48E7-8588-E4198118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141-E375-4854-A434-5DBAAB52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15F6-7833-4B31-BF10-196CC47F8C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FD3E-120E-405B-BB17-9BC5D24E96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Kundenanzahlu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057400" y="2743200"/>
            <a:ext cx="6781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g. Thomas MIGLIN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910330056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undenanzahlung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BD1-C648-4DE5-BCA6-99ADE2D675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g. Thomas MIGLINC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ndenanzahlungen sind eine Form der Kurz- bis mittelfristigen Kreditfinanz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bezahlt der Kunde bereits vor der Lieferung einer Ware oder Inanspruchnahme einer Dienstleistung einen Teil oder den ganzen vereinbarten Betrag dieser Ware oder Dienstleist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l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erkäufer hat eine Vorfinanzierung zur Verfü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isiko, dass der Käufer oder Besteller die Annahme der Ware verweigert oder vom Kauf zurücktritt reduziert sich für den Verkäu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undenanzahlung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660-5435-4754-B914-AB8ED3998A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g. Thomas MIGLINC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r. Grossmann möchte in seiner Tanzschule einen Massivholz-Parkettboden verlegen lassen und beauftragt damit die Parkettfirma Put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ie insgesamt 800 m² Tanzfläche wird ein Pauschalpreis in Höhe von EUR 50.000,- vereinb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r. Grossmann leistet eine Anzahlung in Höhe von 25% des vereinbarten Pauschalpre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hoch ist die Restsumm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undenanzahlung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278-ADBF-4C54-AEED-58B3B8B767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g. Thomas MIGLINC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imes New Roman"/>
              </a:rPr>
              <a:t>Restbetrag = Gesamtbetrag – Anzah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imes New Roman"/>
              </a:rPr>
              <a:t>Anzahlung = 80.000 * 0,25 = 20.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00000"/>
                </a:solidFill>
                <a:latin typeface="Times New Roman"/>
              </a:rPr>
              <a:t>Restbetrag = 80.000 - 20.000 = 60.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r. Grossmann bezahlt bei Auftragserteilung EUR 20.000,- und nach der Verlegung des Parkettbodens noch einen Restbetrag v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UR 60.000,- an die Firma Put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undenanzahlung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954-FE2B-43C5-8C8E-2414A7A3A5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g. Thomas MIGLINC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Ing. Thomas MIGLINCI</dc:creator>
  <dc:description/>
  <dc:language>en-US</dc:language>
  <cp:lastModifiedBy>Thomas MIGLINCI</cp:lastModifiedBy>
  <dcterms:modified xsi:type="dcterms:W3CDTF">2010-04-27T06:48:24Z</dcterms:modified>
  <cp:revision>2100</cp:revision>
  <dc:subject>Kundenanzahlungen</dc:subject>
  <dc:title>PowerPoint-Präsentation</dc:title>
</cp:coreProperties>
</file>