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CF5C-ECC2-484B-9816-C0F0989DA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67AE-DE17-4D51-94FF-9B20A726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A22C-140D-4B43-BA86-D2BEC75D3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0092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708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476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0092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708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F10B-7991-4683-A50C-ED346C821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3C48-350D-41F6-B3CB-E58DED48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C635-302F-40D6-AA97-9885DAD4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A213-2953-4E3F-AABB-3DB53ADA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95CC-7B71-4090-8A70-0837911D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152280"/>
            <a:ext cx="7086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D63C-734B-4EE2-8859-179DCDA0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9009-046B-41E8-888C-D039BD6D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6C8D-7B1D-4EE9-A9A3-7F58081D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4A8F-ADE4-4C37-A715-8852A9CA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20"/>
          <p:cNvSpPr/>
          <p:nvPr/>
        </p:nvSpPr>
        <p:spPr>
          <a:xfrm>
            <a:off x="2286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21"/>
          <p:cNvSpPr/>
          <p:nvPr/>
        </p:nvSpPr>
        <p:spPr>
          <a:xfrm>
            <a:off x="0" y="0"/>
            <a:ext cx="1752480" cy="695124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56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22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E0A4-7B98-4C04-8A59-144A6538C9D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oliennummernplatzhalter 3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2A77-F76D-4800-ADA8-E2BF0578184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2057400" y="178596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3600" spc="-1" strike="noStrike">
                <a:solidFill>
                  <a:srgbClr val="3333cc"/>
                </a:solidFill>
                <a:latin typeface="Arial"/>
              </a:rPr>
              <a:t>Methode des internen Zinsfußes (rechnerisc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057400" y="3284640"/>
            <a:ext cx="67816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allstu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erstellt v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Markus Frie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091033007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n,15.04.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r Zinsfuß (rechn.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DFB0-588A-407B-AE1B-4A26C688868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kus Fried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Theor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ngl. Internal-Rate-of-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st ein Verfahren der dynamischen Investitionsre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gibt die Verzinsung des jeweils im Schnitt über die Laufzeit der Geldanlage gebundenen Kapitals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tellt eine durchschnittliche Jahresrendite d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Formel zur Berechnu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 ... Interner Zinsfuß,   p1 ... Versuchszinsatz 1, K1 ... Kapitalwert bei 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p2 ... Versuchszinssatz2, K2 ... Kapitalwert bei 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88000" y="3716280"/>
            <a:ext cx="3168720" cy="104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r Zinsfuß (rechn.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95BA-3D2E-4692-BDFC-980A6E5DE08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kus Fried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Anga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ie Firma Maier überlegt in einen neuen Bagger zu investieren. Die Anschaffungskosten würden bei 90.000 Euro liegen. Der Kalkulationszinssatz liegt bei 9 %. Die Nutzungsdauer beträgt 5 Jahre. Für die Versuchszinssätze wurden Zinsen in Höhe von 7 % und 14 % bestim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Folgende Überschüsse wurden angenomm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2010    -   1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2011    -    3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2012    -    2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2013    -    3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2014    -    2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 bestimmen ist der interne Zinsfuß – rechneris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r Zinsfuß (rechn.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B059-FAD2-42F4-A38C-E6BE644367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kus Fried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Lös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484360" y="1484280"/>
          <a:ext cx="5906880" cy="2962440"/>
        </p:xfrm>
        <a:graphic>
          <a:graphicData uri="http://schemas.openxmlformats.org/drawingml/2006/table">
            <a:tbl>
              <a:tblPr/>
              <a:tblGrid>
                <a:gridCol w="579240"/>
                <a:gridCol w="1224000"/>
                <a:gridCol w="1150920"/>
                <a:gridCol w="936720"/>
                <a:gridCol w="1152360"/>
                <a:gridCol w="863640"/>
              </a:tblGrid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0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0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Überschüs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zinsungs-fak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w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zinsungs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k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w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2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8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821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chaffungskost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pitalwe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2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4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95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484360" y="4637160"/>
            <a:ext cx="59072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p = 0,07 – 7260 * (0,14 – 0,07) / (-9512 – 726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p = 0,10  </a:t>
            </a:r>
            <a:r>
              <a:rPr b="0" lang="de-A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 d.h. interner Zinsfuß = 1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5554800"/>
            <a:ext cx="59072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Times New Roman"/>
              </a:rPr>
              <a:t>Investition ist vorteilhaft, da interner Zinsfuß über dem Kalkulationszinssatz lieg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r Zinsfuß (rechn.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FA14-3436-4D60-B36D-88B34BF933C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kus Fried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21:17:53Z</dcterms:created>
  <dc:creator>Daniel Franz Leutgeb</dc:creator>
  <dc:description/>
  <dc:language>en-US</dc:language>
  <cp:lastModifiedBy>mr09b077</cp:lastModifiedBy>
  <dcterms:modified xsi:type="dcterms:W3CDTF">2010-04-25T22:13:01Z</dcterms:modified>
  <cp:revision>2110</cp:revision>
  <dc:subject/>
  <dc:title>PowerPoint-Präsentation</dc:title>
</cp:coreProperties>
</file>