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5042-8BEF-4D21-B1FE-5D6B5CD2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F01F-4A17-42AC-91C0-19132601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E83B-98CC-462B-9957-3BC47373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471-47F7-4CA4-AC93-D1C7F215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5B30-9674-4928-926D-171CC417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A748-B6BB-46CB-893F-11B8CC49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9BA-2308-4034-85EC-509B5E85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3FA-9775-4F1C-BA74-C2744811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FBA9-A28B-43F7-AEBD-D810F71A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7210-F482-4CA0-B2D1-3CD2A4BE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AEB7-E300-4DEE-B661-5D93B7F3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D418-D669-49CD-846F-0641FDD8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CA05-0DFA-4842-AA88-B2FCD5D3FA1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065F-2DCC-42A6-A448-46D7E23D5B9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5A20-6937-46C7-A0CB-6E40FC6FCCA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Th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everage-Effe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obert Kl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1033004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1090-E686-41BA-97AC-E06FFEF7728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7086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Leverage-Effekt befasst sich mit der idealen Zusammensetzung aus Eigen- &amp; Fremdk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lange der Zinssatz für die Fremdkapitalaufnahme niedriger ist, als die Verzinsung des gesamten eingesetzten Kapitals, kann durch die Aufnahme von Fremdkapital der Gewinn und die Eigenkapitalrentabilität gesteiger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Leverage-Effekt erzielt eine Hebelwirkung, wenn durch einen vermehrten Einsatz von Fremdkapital die Eigenkapitalrentabilität erhöht w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870E-EF08-4C4B-B93B-B0D12C4520D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rr Rodemich unterhält seit kurzem einen Friseursal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s Stammeinlage (Eigenkapital) brachte 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20.000€ in das Unternehmen e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die restlichen Kosten wurde ein Kredit (Fremdkapital) in Höhe von 170.000€ aufgenomm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den Kredit sind 8% jährlich zu zah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Folge der guten Auftragslage liegt die Gesamtkapitalrentabilität bei 16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933B-4A9A-44DA-8622-8E8724D15D9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1311120"/>
            <a:ext cx="7086600" cy="55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rechnen Sie die Eigenkapitalrentabilitä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verändert sich die Eigenkapitalrentabilität, wenn Herr Rodemich 40 000€ an Eigenkapital entnimmt und hierfür ein weiterer Kredit aufgenommen wir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verändert sich die Eigenkapitalrentabilität wenn es zu Umsatzeinbrüchen kommt, welche ein Absinken der Gesamt-kapitalrentabilität auf 5% bewirkt? (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Basis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gangssitu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2214720" y="1311120"/>
                <a:ext cx="63817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igenkapitalrentabilitä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ahresüberschuss</m:t>
                            </m:r>
                          </m:e>
                          <m:sub>
                            <m:r>
                              <m:t xml:space="preserve">(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r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der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ac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euern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genkapital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r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röffnungsbillanz</m:t>
                                    </m:r>
                                  </m:e>
                                  <m:sub>
                                    <m:r>
                                      <m:t xml:space="preserve">(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inkl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ückfrage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9"/>
              <p:cNvSpPr txBox="1"/>
              <p:nvPr/>
            </p:nvSpPr>
            <p:spPr>
              <a:xfrm>
                <a:off x="2425680" y="2570040"/>
                <a:ext cx="50212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€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€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€*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€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7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0"/>
              <p:cNvSpPr txBox="1"/>
              <p:nvPr/>
            </p:nvSpPr>
            <p:spPr>
              <a:xfrm>
                <a:off x="2373480" y="4305240"/>
                <a:ext cx="56098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€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€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€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€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€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11"/>
              <p:cNvSpPr txBox="1"/>
              <p:nvPr/>
            </p:nvSpPr>
            <p:spPr>
              <a:xfrm>
                <a:off x="2425680" y="6087960"/>
                <a:ext cx="51116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€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€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€*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€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7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Oval 12"/>
          <p:cNvSpPr/>
          <p:nvPr/>
        </p:nvSpPr>
        <p:spPr>
          <a:xfrm>
            <a:off x="6300720" y="2570040"/>
            <a:ext cx="1146240" cy="46512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13"/>
          <p:cNvSpPr/>
          <p:nvPr/>
        </p:nvSpPr>
        <p:spPr>
          <a:xfrm>
            <a:off x="6300720" y="6087960"/>
            <a:ext cx="1236600" cy="46512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14"/>
          <p:cNvSpPr/>
          <p:nvPr/>
        </p:nvSpPr>
        <p:spPr>
          <a:xfrm>
            <a:off x="7093080" y="4305240"/>
            <a:ext cx="928440" cy="46512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Robert Klein</cp:lastModifiedBy>
  <dcterms:modified xsi:type="dcterms:W3CDTF">2010-04-25T21:07:52Z</dcterms:modified>
  <cp:revision>2127</cp:revision>
  <dc:subject/>
  <dc:title>PowerPoint-Präsentation</dc:title>
</cp:coreProperties>
</file>