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F2747E-E6B2-46C8-84E8-A7E0196E7B84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C89-58EF-4F7D-BC60-529DA530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4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70848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5120" y="3838320"/>
            <a:ext cx="70848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FC1-1959-4095-A562-65CF1284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4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7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360" y="1371240"/>
            <a:ext cx="3457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5120" y="3838320"/>
            <a:ext cx="3457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360" y="3838320"/>
            <a:ext cx="3457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4D0-C61F-43AF-97C8-7DE5BE14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4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228096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560" y="1371240"/>
            <a:ext cx="228096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6000" y="1371240"/>
            <a:ext cx="228096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5120" y="3838320"/>
            <a:ext cx="228096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560" y="3838320"/>
            <a:ext cx="228096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6000" y="3838320"/>
            <a:ext cx="228096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910-DE2E-4E0F-AA83-6934D89E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4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5120" y="1371240"/>
            <a:ext cx="70848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C2B0-693F-4F5A-8B5A-F1B0DE77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4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70848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118-35B4-430B-B547-A0C41F1E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4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7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360" y="1371240"/>
            <a:ext cx="3457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7F2-F540-48A9-8FF6-5B4E6A94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4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AA14-12AA-45DD-9ECC-944EA003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5120" y="136440"/>
            <a:ext cx="70848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28B7-D32F-4E95-89CF-71670709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4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7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360" y="1371240"/>
            <a:ext cx="3457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5120" y="3838320"/>
            <a:ext cx="3457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841-13F3-4A5B-9482-2A3086B7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4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7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360" y="1371240"/>
            <a:ext cx="3457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360" y="3838320"/>
            <a:ext cx="3457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30A-A5F2-4641-A70F-205A15E0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4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7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360" y="1371240"/>
            <a:ext cx="3457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5120" y="3838320"/>
            <a:ext cx="708480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4D6-E900-4844-A82A-5D38F721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48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371240"/>
            <a:ext cx="70848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6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1640" y="64767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A7DB92-66C8-43A2-B97D-881ECDEE614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8BF520-8EB7-4816-9EA5-8EB175734A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Eigenkapitalquo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opold Kamsch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2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genkapitalquo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C0E-6DB3-412F-A6EC-A001C37FE3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mschal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66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etzt Eigen- in ein Verhältnis zum Gesamtk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Gibt Stabilität und Unabhängigkeit eines Unternehmens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Höhere Quote bedeutet höhere Kreditwürdigkeit und Bonität des Unterneh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iegt für gewöhnlich bei 25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619280" y="4859280"/>
                <a:ext cx="7199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igenkapitalquot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igenkapita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nklusive</m:t>
                            </m:r>
                            <m:r>
                              <m:t xml:space="preserve">Rücklagen</m:t>
                            </m:r>
                            <m:r>
                              <m:t xml:space="preserve">und</m:t>
                            </m:r>
                            <m:r>
                              <m:t xml:space="preserve">Bilanzgewinn</m:t>
                            </m:r>
                          </m:e>
                        </m:d>
                      </m:num>
                      <m:den>
                        <m:r>
                          <m:t xml:space="preserve">Gesamtkapita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igenkapital</m:t>
                            </m:r>
                            <m:r>
                              <m:t xml:space="preserve">und</m:t>
                            </m:r>
                            <m:r>
                              <m:t xml:space="preserve">Fremdkapital</m:t>
                            </m:r>
                          </m:e>
                        </m:d>
                      </m:den>
                    </m:f>
                    <m:r>
                      <m:t xml:space="preserve">×</m:t>
                    </m:r>
                    <m: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genkapitalquo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506-6FCA-4489-9F00-EDFA4D4AE3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mschal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00360" y="4140360"/>
            <a:ext cx="3779640" cy="2435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66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er Pharmakonzern Dualhelix hat laut Schlussbilanz ein Gesamtkapital in der Höhe von 345.00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as gezeichnete Kapital beträgt 51.000€, dieKapitalrücklage 22.000€ und der Gewinn 42.000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ie hoch ist die Eigenkapitalquot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genkapitalquo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7B1-A14B-4D78-BF78-816636FFCC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mschal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66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800360" y="3600360"/>
                <a:ext cx="7199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igenkapitalquot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igenkapita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nklusive</m:t>
                            </m:r>
                            <m:r>
                              <m:t xml:space="preserve">Rücklagen</m:t>
                            </m:r>
                            <m:r>
                              <m:t xml:space="preserve">und</m:t>
                            </m:r>
                            <m:r>
                              <m:t xml:space="preserve">Bilanzgewinn</m:t>
                            </m:r>
                          </m:e>
                        </m:d>
                      </m:num>
                      <m:den>
                        <m:r>
                          <m:t xml:space="preserve">Gesamtkapita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igenkapital</m:t>
                            </m:r>
                            <m:r>
                              <m:t xml:space="preserve">und</m:t>
                            </m:r>
                            <m:r>
                              <m:t xml:space="preserve">Fremdkapital</m:t>
                            </m:r>
                          </m:e>
                        </m:d>
                      </m:den>
                    </m:f>
                    <m:r>
                      <m:t xml:space="preserve">×</m:t>
                    </m:r>
                    <m: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800360" y="1979640"/>
                <a:ext cx="582768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igenkapital</m:t>
                    </m:r>
                    <m:r>
                      <m:t xml:space="preserve">=</m:t>
                    </m:r>
                    <m:r>
                      <m:t xml:space="preserve">gezeichnetes</m:t>
                    </m:r>
                    <m:r>
                      <m:t xml:space="preserve">Kapital</m:t>
                    </m:r>
                    <m:r>
                      <m:t xml:space="preserve">+</m:t>
                    </m:r>
                    <m:r>
                      <m:t xml:space="preserve">Kapitalrücklage</m:t>
                    </m:r>
                    <m:r>
                      <m:t xml:space="preserve">+</m:t>
                    </m:r>
                    <m:r>
                      <m:t xml:space="preserve">Gewin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60720" y="2606760"/>
                <a:ext cx="36799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1.000</m:t>
                    </m:r>
                    <m:r>
                      <m:t xml:space="preserve">+</m:t>
                    </m:r>
                    <m:r>
                      <m:t xml:space="preserve">22.000</m:t>
                    </m:r>
                    <m:r>
                      <m:t xml:space="preserve">+</m:t>
                    </m:r>
                    <m:r>
                      <m:t xml:space="preserve">42.000</m:t>
                    </m:r>
                    <m:r>
                      <m:t xml:space="preserve">=</m:t>
                    </m:r>
                    <m:r>
                      <m:t xml:space="preserve">115.000</m:t>
                    </m:r>
                    <m:r>
                      <m:t xml:space="preserve">€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987640" y="4446720"/>
                <a:ext cx="3132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15.000</m:t>
                        </m:r>
                      </m:num>
                      <m:den>
                        <m:r>
                          <m:t xml:space="preserve">345.00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00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3.3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genkapitalquo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F60-F0FD-409A-A28B-6DCF7FAE62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mschal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6:40:27Z</dcterms:created>
  <dc:creator>Leopold Kamschal</dc:creator>
  <dc:description/>
  <dc:language>en-US</dc:language>
  <cp:lastModifiedBy>Leopold Kamschal</cp:lastModifiedBy>
  <dcterms:modified xsi:type="dcterms:W3CDTF">2010-04-25T17:31:48Z</dcterms:modified>
  <cp:revision>5</cp:revision>
  <dc:subject/>
  <dc:title>PowerPoint-Präsentation</dc:title>
</cp:coreProperties>
</file>