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92B-9F09-48BC-907C-8CC36844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7CD-B1EE-42E8-BC01-9AF29AD3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DD3-8FC8-4832-85E4-962C8D9C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F08-64B0-4810-ADA7-A0317CB8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FAB-D346-457D-ACA2-773FDB11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672-E45A-4487-A815-6B7AEE6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393-3487-4C36-8653-B003D7FA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76C-DB88-4AA0-A378-A609F47F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97B-BE74-477A-8310-1B6F202A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3CC-F1BD-4A99-BD56-F8ECD227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9B9-F34E-4F6B-94C3-B028E6F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2AB-92C8-4356-8FE5-BC2FC2CC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EE99-1EE3-4B1F-911A-EFEE6348E0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A784-ED2E-4C91-8E2C-88FD1DB76E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Optionsanlei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mon Stür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7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8.04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tionsanleih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2AF-6BF2-43E8-ADC3-1FD14E419A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on Stür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form der Finanz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eht meist aus Anleihe und Optionsschein (Cum - Anleihe), geht auch ohne beigefügtem Optionsschein (Ex - Anlei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anleihen berechtigen zum Kauf/Verkauf eines Vermögenswertes (Aktien einer AG oder KGa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nsung niedriger als bei herkömmlichen Anlei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d bei Fälligkeit wieder zum Nennpreis zurückgezah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besteht die Möglichkeit zusätzlich Aktien zum festgelegten Bezugskurs zu erwer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anleihen bleiben auch nach dem Aktienbezug best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Unternehmen eine Möglichkeit zu langfristigem und zinsgünstigem Fremdkapital zu ko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ditionsbestandteile einer Optionsanleihe sind : Laufzeit, Nominalzins, Optionspreis, Optionsfrist, Sicherheit, Zinstermine, Bezugsverhältnis (bisheriges Grundkapital / Erhöhungskapital)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tionsanleih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5B6-D392-45C1-BCF2-44F815EB2C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on Stür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Inhaber eine Optionsscheins (Inn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insung von 5%) überlegt ob er sich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e X direkt bezieht oder mit Gebrauch se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tionsscheins. Der Wert des Optionssche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 Berücksichtigung des Bezugsverhältn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egt bei 117,6 €. Der aktuelle Tageswert der Ak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liegt bei 125€ und hat einen aktuellen Kurs 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13,9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: Ist es billiger die Aktie direkt zu erwerb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unter dem Gebrauch de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tionssche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tionsanleih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3B2-ECB5-45EF-8DBA-570DD9F5C5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on Stür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t der Aktie unter Berücksichti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Verzinsung: 125 € * 1,05 =131,25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z aus Wert der Aktie und Wert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tionsscheins : 131,25 € - 117,6 = 13,65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3,9 € &gt; 13,65 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 der aktuelle Kurs größer ist als di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z ist es billige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ktie direk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wer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tionsanleih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CA7-536D-4B1C-9053-BA86C0AD9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imon Stür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Timon</cp:lastModifiedBy>
  <dcterms:modified xsi:type="dcterms:W3CDTF">2010-04-23T18:57:15Z</dcterms:modified>
  <cp:revision>2099</cp:revision>
  <dc:subject/>
  <dc:title>PowerPoint-Präsentation</dc:title>
</cp:coreProperties>
</file>