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20D-865C-4D48-B908-0D638982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0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732480"/>
            <a:ext cx="7080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882-99AF-449F-8BFE-3A39D045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2840" y="1371600"/>
            <a:ext cx="345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732480"/>
            <a:ext cx="345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2840" y="3732480"/>
            <a:ext cx="345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9EB-C783-4A32-BAE1-6FDE2F00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22795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8760" y="1371600"/>
            <a:ext cx="22795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2400" y="1371600"/>
            <a:ext cx="22795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732480"/>
            <a:ext cx="22795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98760" y="3732480"/>
            <a:ext cx="22795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2400" y="3732480"/>
            <a:ext cx="22795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29E-A881-496B-8125-94306B23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600"/>
            <a:ext cx="7080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EA2-FC37-484D-84CB-2168AB96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0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550-8F08-4477-94B5-A92D652D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49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2840" y="1371600"/>
            <a:ext cx="34549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ED4-75BD-4BC2-8872-2F22C01F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B90-E35E-43BC-9C00-5D95EFA3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36440"/>
            <a:ext cx="70801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C58-15F8-4142-A410-47890BEC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2840" y="1371600"/>
            <a:ext cx="34549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732480"/>
            <a:ext cx="345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997-FA56-4765-8D39-0A2F69DD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49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2840" y="1371600"/>
            <a:ext cx="345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2840" y="3732480"/>
            <a:ext cx="345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954-D444-4B1A-855C-A538A54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840" y="1371600"/>
            <a:ext cx="34549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732480"/>
            <a:ext cx="7080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8F7-0404-489C-88BA-F943343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0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600"/>
            <a:ext cx="7080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2720"/>
            <a:ext cx="18986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vid Spul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5656"/>
              </a:gs>
              <a:gs pos="100000">
                <a:srgbClr val="0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2720"/>
            <a:ext cx="190152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ährungss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F1F52-68B4-44C9-8FFE-BE38449539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58F07-6A5F-421B-B0EF-40C4CAE946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Währungssw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vid Spul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534-AD7A-4529-A214-576DA01C48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Währungssw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12680" y="1440000"/>
            <a:ext cx="7086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2 Vertragsparte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0">
              <a:spcBef>
                <a:spcPts val="6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stausch von Zins- und Kapitalzahlungen in unterschiedlichen Wäh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0">
              <a:spcBef>
                <a:spcPts val="6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ausch der Kapitalbeträge zu Beginn und am Ende der Laufzeit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(zum beim Vertragsabschluss gültigen Wechselk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0">
              <a:spcBef>
                <a:spcPts val="6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Tausch der Zinsen in regelmäßigen Abstä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57400" y="5373720"/>
            <a:ext cx="1440000" cy="9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US - 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Unterne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8120" y="5373720"/>
            <a:ext cx="1439640" cy="90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Österreichis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Unterne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5913360"/>
            <a:ext cx="900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991280" y="5913360"/>
            <a:ext cx="9126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5880" y="5275440"/>
            <a:ext cx="1001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Kredi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U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97760" y="5275440"/>
            <a:ext cx="100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Kredit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97400" y="5553000"/>
            <a:ext cx="2160720" cy="1800"/>
          </a:xfrm>
          <a:prstGeom prst="line">
            <a:avLst/>
          </a:prstGeom>
          <a:ln w="93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390560" y="5734080"/>
            <a:ext cx="2173320" cy="1440"/>
          </a:xfrm>
          <a:prstGeom prst="line">
            <a:avLst/>
          </a:prstGeom>
          <a:ln w="93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18120" y="5219640"/>
            <a:ext cx="2519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400" spc="-1" strike="noStrike">
                <a:solidFill>
                  <a:srgbClr val="dc2300"/>
                </a:solidFill>
                <a:latin typeface="Times New Roman"/>
              </a:rPr>
              <a:t> </a:t>
            </a:r>
            <a:r>
              <a:rPr b="0" lang="de-AT" sz="1600" spc="-1" strike="noStrike">
                <a:solidFill>
                  <a:srgbClr val="800000"/>
                </a:solidFill>
                <a:latin typeface="Times New Roman"/>
              </a:rPr>
              <a:t>Kapitalbeträ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7400" y="5913360"/>
            <a:ext cx="2160720" cy="180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390560" y="6094440"/>
            <a:ext cx="2173320" cy="144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8120" y="6094440"/>
            <a:ext cx="2519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600" spc="-1" strike="noStrike">
                <a:solidFill>
                  <a:srgbClr val="0000ff"/>
                </a:solidFill>
                <a:latin typeface="Times New Roman"/>
              </a:rPr>
              <a:t>Zinsen</a:t>
            </a:r>
            <a:r>
              <a:rPr b="0" lang="de-A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A63-A73B-4DAE-9D74-C110023969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608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ährungsswap USD gegen 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s wird ein Nennwert von 10 Mio. 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aufzeit: 4 Ja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US-Firma „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Weapon4U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“ nimmt gibt dafür eine Festverzinsliche $-Anleihe zu 3 % p.a. a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s österreichische Unternehmen „</a:t>
            </a:r>
            <a:r>
              <a:rPr b="0" i="1" lang="de-AT" sz="2400" spc="-1" strike="noStrike">
                <a:solidFill>
                  <a:srgbClr val="000000"/>
                </a:solidFill>
                <a:latin typeface="Arial"/>
              </a:rPr>
              <a:t>IssKäs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“ gibt eine Festverzinsliche €-Anleihe 3,5 % p.a. a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0">
              <a:spcBef>
                <a:spcPts val="6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USD-Kurs beträgt bei Vertragsabschluss 1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0">
              <a:spcBef>
                <a:spcPts val="6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rechnen Sie die Kapital, sowie die Zinsbeträge die sich beide Parteien überwei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D67-E042-4FEB-B692-A711A4328F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19680" indent="-31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apitaltausch zu Begin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9480" indent="-265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IssKä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zahlt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Weapon4U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10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9480" indent="-265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Weapon4U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zahlt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IssKä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13,3 Mio USD (10 x 1,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instausch im 1., 2., 3. und 4. Jah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9480" indent="-265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IssKä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zahlt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Weapon4U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jährlich 350.000,00 EUR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10 Mio x 0,03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9480" indent="-265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Weapon4U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zahlt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IssKä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jährlich 399.000,00 USD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13,3 Mio x 0,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apitaltausch am 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9480" indent="-265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IssKä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zahlt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Weapon4U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13,3 Mio U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9480" indent="-265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Weapon4U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zahlt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IssKä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10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2C0-A5C7-41C6-8814-DA718A28D2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David </cp:lastModifiedBy>
  <dcterms:modified xsi:type="dcterms:W3CDTF">2010-04-26T10:12:08Z</dcterms:modified>
  <cp:revision>2109</cp:revision>
  <dc:subject/>
  <dc:title>PowerPoint-Präsentation</dc:title>
</cp:coreProperties>
</file>