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906-1942-410C-8F41-D1F9FA0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F95-6796-479B-91BB-170227C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F3D-BE2B-4F00-B46A-11A96055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43A-F086-4634-9BCA-D512166B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AAD-107F-41A4-987E-97F42DE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06D-B579-4AB7-B529-9CF78B80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466-31DA-4E9E-BE60-C7FB102E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8BC-5929-43F5-B169-257B6653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44A-BC79-4B2E-86F8-984CF2D1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CC0-208F-4F65-BA2B-B080604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3BB-F9BC-4A97-8F9F-73E3311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E03-2E93-40D8-AFD2-078714FA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2648-B93D-4C79-B27E-D7829A6E97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08CA-4F23-4A74-A2E6-EE4B1C5009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Gesamtkapitalrentabilitä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zinger Luk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910330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amtkapitalrentabilitä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922-E405-4CAF-99C9-8F91DFC55B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olzinger Luk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1360" y="5792760"/>
            <a:ext cx="173376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wird im Gegensatz zur Eigenkapitalrentabilität (EKR) das ganze Kapital des Unternehmens berücksicht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gt die Leistungsfähigkeit des Unternehmens unter Einbezug von Eigen- &amp; Fremdk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höher die GKR desto besser werden die zur Verfügung stehenden Vermögenswerte eines Unternehmens eingesetz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werden auch die Fremdkapitalzinsen berücksicht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ichtwe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gt;15% sehr g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2-15% g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-12% mittel – schl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8% Restrukturierungsf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Rectangle 16"/>
              <p:cNvSpPr txBox="1"/>
              <p:nvPr/>
            </p:nvSpPr>
            <p:spPr>
              <a:xfrm>
                <a:off x="171360" y="5823000"/>
                <a:ext cx="8820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esamtkapitalrentabilität</m:t>
                        </m:r>
                      </m:e>
                      <m:sub>
                        <m:r>
                          <m:t xml:space="preserve">(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K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ahresüberschuss</m:t>
                            </m:r>
                          </m:e>
                          <m:sub>
                            <m:r>
                              <m:t xml:space="preserve">(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der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ac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euern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remdkapitalzinse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samtkapital</m:t>
                            </m:r>
                          </m:e>
                          <m:sub>
                            <m:r>
                              <m:t xml:space="preserve">(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igenkapit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remdkapital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amtkapitalrentabilitä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653-852A-4B1F-967B-22EA02F27D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olzinger Luk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Firma Hosenträger-GmbH ist eine Firma, welche die wieder neuaufkommende Mode der letzten Jahre genützt hat. Das Gesamtkapital belief sich in der Gründungsbilanz des Jahres 2009 auf EUR 405.000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2 Unternehmer konnten einen Jahresgewinn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 54.000 verbuchen, welcher aufgrund der wiederaufkommenden Mode der Hosenträger ein Plus von 3% zum Vorjahr darstellte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Fremdkapitalzinsen beliefen sich auf EUR 8.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mitteln Sie die Gesamtkapitalrentabilität und interpretieren Sie di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5920" y="1700280"/>
            <a:ext cx="151920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amtkapitalrentabilitä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278-D641-427D-8E73-ABC0DE3875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olzinger Luk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Rectangle 16"/>
              <p:cNvSpPr txBox="1"/>
              <p:nvPr/>
            </p:nvSpPr>
            <p:spPr>
              <a:xfrm>
                <a:off x="1905120" y="1844640"/>
                <a:ext cx="69213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samtkapitalrentabilitä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Jahresgewinn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remdkapitalzinse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esamtkapita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Gesamtkapitalrentabilitä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905120" y="4005360"/>
            <a:ext cx="7086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hr gute Gesamtkapitalrentabilität, da &gt;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0760" y="1467000"/>
            <a:ext cx="1519200" cy="18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amtkapitalrentabilitä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17C-442B-4BE8-BE27-3E9480634C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olzinger Luk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User</cp:lastModifiedBy>
  <dcterms:modified xsi:type="dcterms:W3CDTF">2010-04-22T20:53:32Z</dcterms:modified>
  <cp:revision>2106</cp:revision>
  <dc:subject/>
  <dc:title>PowerPoint-Präsentation</dc:title>
</cp:coreProperties>
</file>