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8B2E-7730-4185-B8BE-68CEEE8E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B72-A06F-4CB4-8115-0C9A7C89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7FD6-0019-41D5-ACCB-664289E6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3BF-C63B-49D7-A9FB-62AFA7D0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4F8-FF94-46F1-AE2D-48C9D941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C8B-1CF2-4947-A5D3-5F6E8E2E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F56-133D-469E-948A-BC2C981E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884-B855-4428-95FE-72849002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36D-E59A-408F-B569-5FCB800B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919-5369-4BF4-A02D-7633731F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E20-B89B-436C-B192-855B5CCE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115-531D-4DE1-AFEC-13A3ADFC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6C7E-7092-4B45-8E71-E51118E8E60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argl Stef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schuldungsg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72A3-5548-474A-B359-F8554B57CBB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A8E9-0C56-48D9-91CA-10E1E33DBF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Verschuldungsgr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efan Kar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argl Stef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schuldungsg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1A29-2BCA-4BF1-90C3-112B084AA9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1680840"/>
            <a:ext cx="69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Verschuldungsgrad eines Unternehmens berechnet sich aus dem Fremdkapital im Verhältnis zum Eigenkapit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868120"/>
            <a:ext cx="691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in der Praxis herausgebildete, grobe Regel besagt, dass der Verschuldungsgrad nicht höher sein soll als 2:1 (200%), also das Fremdkapital nicht mehr als das Doppelte des EK betragen so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4724280"/>
            <a:ext cx="63356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argl Stef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schuldungsg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0F46-1972-4D0E-A5ED-0DBCDEDCD14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feld 7"/>
          <p:cNvSpPr/>
          <p:nvPr/>
        </p:nvSpPr>
        <p:spPr>
          <a:xfrm>
            <a:off x="1752480" y="1916280"/>
            <a:ext cx="723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Für eine Kreditvergabe über 50 Mio Euro an das Unternehmen PLEITE AG benötigt die Hypo Alpe Adria-Bank International einige Kennzahlen der AG. Aus derer Bilanz geht ein Eigenkapital von 292,9 Mio Euro und 288,6 Mio an Fremdkapital herv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4564080"/>
            <a:ext cx="69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fga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chnen Sie die den Verschuldungsgra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der PLEITE 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argl Stef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erschuldungsg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3B6C-5902-43D9-B758-EAF010DDB13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feld 6"/>
          <p:cNvSpPr/>
          <p:nvPr/>
        </p:nvSpPr>
        <p:spPr>
          <a:xfrm>
            <a:off x="2124000" y="1654200"/>
            <a:ext cx="6653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Verschuldungsgrad =  (FK) 288,6 mio EUR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(EK) 292,9 mio 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* 100  = 98,53%  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Die PLEITE AG hat somit einen Verschuldungsgrad   von  98,53%.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Stefan Kargl</cp:lastModifiedBy>
  <dcterms:modified xsi:type="dcterms:W3CDTF">2010-04-25T08:53:47Z</dcterms:modified>
  <cp:revision>2129</cp:revision>
  <dc:subject/>
  <dc:title>PowerPoint-Präsentation</dc:title>
</cp:coreProperties>
</file>