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23BE-62C5-4701-98EB-8E390B078A6B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467C-C449-4DE7-BA8B-3EDBD00F314E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46BD-1FE3-4DE5-B016-BD02D3B5B2B1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56A-FA51-4AA5-8453-ECEB784CFD12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772-CC6C-4EC8-A926-E9FED7B1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2E4-23A7-41E0-813C-34FA01A4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590-E9E0-454C-9BDA-0315CBFD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B87-A118-4E4F-B61A-343D41AC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6D7-C25E-4A49-96B3-A881656A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1B1-1EF6-4848-9A3D-7D252FD5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EED-80F4-4267-B814-BBF0ACBB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03D-4BF1-49E1-855E-C7AF9EFD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FE4-62B4-4E4C-A230-09ABEFEA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BDF-07EE-4CCE-8CC5-90A3471B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DED-102B-43B2-ABEA-4E199B6C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AF5-9110-4071-90A6-4958199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782-2AEB-4DD3-BB4C-163D3276FD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6BE9-5B30-497A-9230-0A79AE21EF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4656-22AB-431C-9C7C-69732C162B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Indexed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usburger Matth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910330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FA3D-6CD7-4289-92DA-7ECB94209C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Bond ist eine Anleihe bzw. Schuldsch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onds werden zur längerfristigen Kreditfinanzierung ausgeg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exed“ bezeichnet die Verzinsungsform des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besteht ein direkter Zusammenhang zwischen dem Zinssatz des Bonds und einem Index wie dem ATX, DAX, DJI, usw. oder auch dem Inflationsind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D33B-1F05-468F-90CE-83355CC2D9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Amerikanische Staat gibt Anleihen sogenannte T-Notes mit einer Laufzeit von 10 Jahren 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 haben eine Fixverzinsung von 5%. Es werden Anleihen für 1000$ gekauft. Wie viel würde es ausmachen wären die Anleihen Inflationsgebunden (es wird mit 2,1% gerechn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D21E-7556-4471-97B5-3B343DF2FB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*(1+i)^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hne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1000*(1+0,05)^10 =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1 629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lat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1000*(1+0,05+0,021)^10 =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1 986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la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h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357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Windows-Benutzer</cp:lastModifiedBy>
  <dcterms:modified xsi:type="dcterms:W3CDTF">2010-04-18T10:21:26Z</dcterms:modified>
  <cp:revision>2104</cp:revision>
  <dc:subject/>
  <dc:title>PowerPoint-Präsentation</dc:title>
</cp:coreProperties>
</file>