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1CE-AB3F-421F-BBDF-7B1A6C8C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436-F4A4-41E6-8448-3DAFB843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929-7BF2-4210-89CE-5CF6E947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4CE-B689-44CE-A8FC-A96AF4A7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62B-0FF6-4FF0-B811-A8EAEC1C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02F-C5B9-4C3E-BA17-07834A43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949-1547-4454-B6B7-6CB1126B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E7D-7AA9-4987-8554-DFA35A9A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4CF-CE89-4BA4-A1D3-DAB05E2C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2E6-64DF-4A7A-A22F-BF7C5B7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697-1A2D-4A7B-947B-831F2B38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5AF-1C55-4245-A162-9F8750A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E18C-1C89-4F7C-8491-EBDC55D254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79CA-D827-499D-ADC1-40E0EC0F93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T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rwert einer einmaligen Zahl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er Luk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mr09b05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0.3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583-5239-4241-BE70-0CA6360D68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Hilfe des Barwertes einer einmaligen Zahlung kann festgestellt werden welchen Wert eine während einer Betrachtungsperiode geleistete Zahlung zu Beginn dieser Periode hat. Er wird mitte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zins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rechne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de-DE" sz="1600" spc="-1" strike="noStrike">
                <a:solidFill>
                  <a:srgbClr val="800000"/>
                </a:solidFill>
                <a:latin typeface="Arial"/>
              </a:rPr>
              <a:t>(finanzmathematische Grundlage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1" i="1" lang="de-DE" sz="24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1" i="1" lang="de-DE" sz="2400" spc="-1" strike="noStrike">
                <a:solidFill>
                  <a:srgbClr val="800000"/>
                </a:solidFill>
                <a:latin typeface="Arial"/>
              </a:rPr>
              <a:t>= K</a:t>
            </a:r>
            <a:r>
              <a:rPr b="1" i="1" lang="de-DE" sz="2400" spc="-1" strike="noStrike" baseline="-25000">
                <a:solidFill>
                  <a:srgbClr val="800000"/>
                </a:solidFill>
                <a:latin typeface="Arial"/>
              </a:rPr>
              <a:t>n </a:t>
            </a:r>
            <a:r>
              <a:rPr b="1" i="1" lang="de-DE" sz="2400" spc="-1" strike="noStrike">
                <a:solidFill>
                  <a:srgbClr val="800000"/>
                </a:solidFill>
                <a:latin typeface="Arial"/>
              </a:rPr>
              <a:t>/ q^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ge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wert der einmaligen Zah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t am Ende der Betrachtungsperi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  …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zinsungsfaktor (Zinssatz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 …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z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alphaModFix amt="53000"/>
          </a:blip>
          <a:stretch/>
        </p:blipFill>
        <p:spPr>
          <a:xfrm>
            <a:off x="3276720" y="2781360"/>
            <a:ext cx="417672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80D-941A-48A3-9485-7A07CFCFBA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7" dur="1" fill="hold"/>
                                  <p:tgtEl>
                                    <p:spTgt spid="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8" dur="1" fill="hold"/>
                                  <p:tgtEl>
                                    <p:spTgt spid="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9" dur="1" fill="hold"/>
                                  <p:tgtEl>
                                    <p:spTgt spid="4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0" dur="1" fill="hold"/>
                                  <p:tgtEl>
                                    <p:spTgt spid="4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" dur="1" fill="hold"/>
                                  <p:tgtEl>
                                    <p:spTgt spid="4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 Kind fragt den Vater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api Papi ...Wieviel Geld muss ich auf ein Sparbuch legen, damit ich in Vierzig Jahren 1.000.000 € reich bin?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a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in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ein Problem, das kann ich berechnen. Angenommen du bekämst 5% fixe Rendite bei deiner Ban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1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1,05 (1 + 0,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84360" y="3573360"/>
            <a:ext cx="1901880" cy="23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432-8465-40CD-948E-400C61EF1F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1" i="1" lang="de-DE" sz="24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1" i="1" lang="de-DE" sz="2400" spc="-1" strike="noStrike">
                <a:solidFill>
                  <a:srgbClr val="800000"/>
                </a:solidFill>
                <a:latin typeface="Arial"/>
              </a:rPr>
              <a:t>= K</a:t>
            </a:r>
            <a:r>
              <a:rPr b="1" i="1" lang="de-DE" sz="2400" spc="-1" strike="noStrike" baseline="-25000">
                <a:solidFill>
                  <a:srgbClr val="800000"/>
                </a:solidFill>
                <a:latin typeface="Arial"/>
              </a:rPr>
              <a:t>n </a:t>
            </a:r>
            <a:r>
              <a:rPr b="1" i="1" lang="de-DE" sz="2400" spc="-1" strike="noStrike">
                <a:solidFill>
                  <a:srgbClr val="800000"/>
                </a:solidFill>
                <a:latin typeface="Arial"/>
              </a:rPr>
              <a:t>/ q^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baseline="-25000">
                <a:solidFill>
                  <a:srgbClr val="8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baseline="-25000">
                <a:solidFill>
                  <a:srgbClr val="8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000.000/1.05^40 =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42.045,6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twort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einem Zinssatz von 5% müsste das Kind 142.045,68€ auf die Bank legen um nach Vierzig Jahren 1Mio € zu besitzen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Kind ist traurig! 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Da heißt es Sparen!!!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4800600"/>
            <a:ext cx="159696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F9C-3D05-4C5C-9745-541B2CCCB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Beier Lukas</cp:lastModifiedBy>
  <dcterms:modified xsi:type="dcterms:W3CDTF">2010-04-22T14:22:15Z</dcterms:modified>
  <cp:revision>2123</cp:revision>
  <dc:subject/>
  <dc:title>PowerPoint-Präsentation</dc:title>
</cp:coreProperties>
</file>