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F80-A0C4-4963-BA9E-60639E63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C6F-8586-4E6C-ADF4-E86333C3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48C-FBBA-4B14-804F-06073592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9E7-C8F5-46F8-B794-7294A6F1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797-F064-4CB3-A460-3E27792A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2B3-9FAE-406C-825A-B7AFE1F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7E0-B2E4-47FA-AF95-775DDE6F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95D-65F6-42FE-87B0-1BC05E2D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289-41BC-4759-B402-EB4981E0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20D-4598-4ADA-87D6-ACB686C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C41-1262-4C3E-A305-E199DC9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65F-873D-4CD0-AC28-74A4092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B56D-330C-4A23-88F4-99AAF07018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620B-708C-4D0B-8FA3-2DBCF0172D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Avalkre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hmit Mark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3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5. 4.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valkred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92B-AD7F-4AF1-953A-9B34E9DDA3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chmit Mark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36400" y="1371240"/>
            <a:ext cx="66992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nahme von Garantie/Bürgschaft gegenüber D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Laufzeit: kurz-/mittelfrist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Kosten: 0,5% – 4% Provision, Entge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Oft nur bei erstklassige Bonitä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Miet-/Gewährleistungs-/Anzahlungs-/Leistungs-/Lieferungsa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84720" y="4006800"/>
            <a:ext cx="2400480" cy="2151000"/>
            <a:chOff x="6084720" y="4006800"/>
            <a:chExt cx="2400480" cy="2151000"/>
          </a:xfrm>
        </p:grpSpPr>
        <p:sp>
          <p:nvSpPr>
            <p:cNvPr id="50" name=""/>
            <p:cNvSpPr/>
            <p:nvPr/>
          </p:nvSpPr>
          <p:spPr>
            <a:xfrm flipH="1" rot="7924200">
              <a:off x="6862680" y="4233600"/>
              <a:ext cx="1069200" cy="1031400"/>
            </a:xfrm>
            <a:custGeom>
              <a:avLst/>
              <a:gdLst>
                <a:gd name="textAreaLeft" fmla="*/ 356400 w 1069200"/>
                <a:gd name="textAreaRight" fmla="*/ 915840 w 1069200"/>
                <a:gd name="textAreaTop" fmla="*/ 868680 h 1031400"/>
                <a:gd name="textAreaBottom" fmla="*/ 883440 h 103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86"/>
                  </a:moveTo>
                  <a:lnTo>
                    <a:pt x="18186" y="21286"/>
                  </a:lnTo>
                  <a:lnTo>
                    <a:pt x="18186" y="7200"/>
                  </a:lnTo>
                  <a:lnTo>
                    <a:pt x="15086" y="7200"/>
                  </a:lnTo>
                  <a:lnTo>
                    <a:pt x="18343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84720" y="490032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99120" y="570060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99400" y="490032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6598800" y="5414760"/>
              <a:ext cx="457200" cy="342720"/>
            </a:xfrm>
            <a:custGeom>
              <a:avLst/>
              <a:gdLst>
                <a:gd name="textAreaLeft" fmla="*/ 152280 w 457200"/>
                <a:gd name="textAreaRight" fmla="*/ 391680 w 457200"/>
                <a:gd name="textAreaTop" fmla="*/ 288720 h 342720"/>
                <a:gd name="textAreaBottom" fmla="*/ 29376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86"/>
                  </a:moveTo>
                  <a:lnTo>
                    <a:pt x="18186" y="21286"/>
                  </a:lnTo>
                  <a:lnTo>
                    <a:pt x="18186" y="7200"/>
                  </a:lnTo>
                  <a:lnTo>
                    <a:pt x="15086" y="7200"/>
                  </a:lnTo>
                  <a:lnTo>
                    <a:pt x="18343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198840" y="5357520"/>
              <a:ext cx="799920" cy="685800"/>
            </a:xfrm>
            <a:custGeom>
              <a:avLst/>
              <a:gdLst>
                <a:gd name="textAreaLeft" fmla="*/ 266760 w 799920"/>
                <a:gd name="textAreaRight" fmla="*/ 685080 w 799920"/>
                <a:gd name="textAreaTop" fmla="*/ 57744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86"/>
                  </a:moveTo>
                  <a:lnTo>
                    <a:pt x="18186" y="21286"/>
                  </a:lnTo>
                  <a:lnTo>
                    <a:pt x="18186" y="7200"/>
                  </a:lnTo>
                  <a:lnTo>
                    <a:pt x="15086" y="7200"/>
                  </a:lnTo>
                  <a:lnTo>
                    <a:pt x="18343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1920" y="53575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98840" y="5700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77240" y="419112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84920" y="5357520"/>
              <a:ext cx="685800" cy="685800"/>
            </a:xfrm>
            <a:custGeom>
              <a:avLst/>
              <a:gdLst>
                <a:gd name="textAreaLeft" fmla="*/ 228600 w 685800"/>
                <a:gd name="textAreaRight" fmla="*/ 587520 w 685800"/>
                <a:gd name="textAreaTop" fmla="*/ 577440 h 685800"/>
                <a:gd name="textAreaBottom" fmla="*/ 5875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286"/>
                  </a:moveTo>
                  <a:lnTo>
                    <a:pt x="18186" y="21286"/>
                  </a:lnTo>
                  <a:lnTo>
                    <a:pt x="18186" y="7200"/>
                  </a:lnTo>
                  <a:lnTo>
                    <a:pt x="15086" y="7200"/>
                  </a:lnTo>
                  <a:lnTo>
                    <a:pt x="18343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913520" y="57006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206880" y="4691160"/>
            <a:ext cx="3097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…Unternehm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…Bank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…Dritt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…Avalkreditgewähru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…Provisi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…Bürgschaft/Garant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4…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valkred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9C1-648A-46B3-9214-5313DD2AAB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chmit Mark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Firma ATT&amp;B bekommt den Auftrag 2 Sechsachsknickarmroboter zu liefern, zu installieren und die Arbeiter auf die unbekannten Geräte einzuschu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&amp;B sind Neueinsteiger, daher möchte d. Fa. Kag eine Lieferungs-/Leistungssicherheit mit einer Eventualbesicherung von 90.000,00 Euro. Nach genauer Prüfung gewährt die Bank Heipo einen Avalkredit von 90.000,00 Euro und übernimmt die Bürgschaft für ATT&amp;B, auf vertragsgemäßer Lieferung/Leistu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ditionen: 2% Avalprovision p.a., 100,00 Euro einmalige Gebühren (Ausfertig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valkred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751-7FB1-4B3E-BF8C-21014ABBFE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chmit Mark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 + (Ko * Pr * l) = 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0 + (90.000 * 0,02 *1) = 1900 Eu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nk Heipo stellt der Fa. ATT&amp;B für den Zeitraum des Avalkredits 1.900,00 Euro in Rechn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…Gebühren/Entgelte einm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…Avalprovisionsz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…Laufzeit, in Ja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v…Kosten Avalkredit ges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valkred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6E7-DEA7-44A5-AA4D-D235230465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chmit Mark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White</cp:lastModifiedBy>
  <dcterms:modified xsi:type="dcterms:W3CDTF">2010-04-25T22:00:10Z</dcterms:modified>
  <cp:revision>2103</cp:revision>
  <dc:subject/>
  <dc:title>PowerPoint-Präsentation</dc:title>
</cp:coreProperties>
</file>