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93503-17D7-4F9C-9988-5C99E6E50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72EC7-6D3D-4593-88C0-1F57D65B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3FC86-12BB-4B86-B267-184D770CD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608B1-B998-4768-844B-B98DE6675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54A4A-97F5-4588-9DEF-7A063295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19769-32DD-4329-A35A-C9C782AB7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FAD5E-21D2-428E-B06B-3604E55C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4ED28-2CB4-44CF-B8C4-5D046EDAA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FB20E-6ED8-417F-94CE-837F8B25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4F80-EBE8-412D-AC8D-57B48AC5C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E01F-56F7-48F3-9218-9287E0388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48326-CE6C-4208-A92E-884258841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649E-810B-4AE2-BDA3-32F8FDDF1ACC}"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dalla</a:t>
            </a:r>
            <a:endParaRPr b="0" lang="en-US" sz="1000" spc="-1" strike="noStrike">
              <a:solidFill>
                <a:srgbClr val="000000"/>
              </a:solidFill>
              <a:latin typeface="Times New Roman"/>
            </a:endParaRPr>
          </a:p>
        </p:txBody>
      </p:sp>
      <p:sp>
        <p:nvSpPr>
          <p:cNvPr id="45"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lan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27A0-4FF7-4AF1-B2D0-5837AD5B13D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2A1E-4E30-4C4C-A447-7F8AC50C2E2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Bilanz</a:t>
            </a:r>
            <a:endParaRPr b="0" lang="en-US" sz="3600" spc="-1" strike="noStrike">
              <a:solidFill>
                <a:srgbClr val="000000"/>
              </a:solidFill>
              <a:latin typeface="Times New Roman"/>
            </a:endParaRPr>
          </a:p>
        </p:txBody>
      </p:sp>
      <p:sp>
        <p:nvSpPr>
          <p:cNvPr id="49"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llstudie</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hmed Abdalla</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28)</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April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dalla</a:t>
            </a:r>
            <a:endParaRPr b="0" lang="en-US" sz="1000" spc="-1" strike="noStrike">
              <a:solidFill>
                <a:srgbClr val="000000"/>
              </a:solidFill>
              <a:latin typeface="Times New Roman"/>
            </a:endParaRPr>
          </a:p>
        </p:txBody>
      </p:sp>
      <p:sp>
        <p:nvSpPr>
          <p:cNvPr id="51"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lan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134A-8DB0-4E27-9E2D-288C625EAB3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4" name="PlaceHolder 2"/>
          <p:cNvSpPr>
            <a:spLocks noGrp="1"/>
          </p:cNvSpPr>
          <p:nvPr>
            <p:ph/>
          </p:nvPr>
        </p:nvSpPr>
        <p:spPr>
          <a:xfrm>
            <a:off x="1904760" y="1356840"/>
            <a:ext cx="7086600" cy="52945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lanz ist eine Gegenüberstellung von Vermögen (Aktiva) und Schulden (Passiva) in Kontenform.</a:t>
            </a:r>
            <a:endParaRPr b="0" lang="en-US" sz="18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ellt den wirtschaftlichen Erfolg eines Unternehmens in einer gewissen Periode </a:t>
            </a:r>
            <a:endParaRPr b="0" lang="en-US" sz="18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inks: Aktiva(Investition) </a:t>
            </a:r>
            <a:r>
              <a:rPr b="0" lang="de-DE" sz="1800" spc="-1" strike="noStrike">
                <a:solidFill>
                  <a:srgbClr val="000000"/>
                </a:solidFill>
                <a:latin typeface="Wingdings"/>
                <a:ea typeface="Wingdings"/>
              </a:rPr>
              <a:t></a:t>
            </a:r>
            <a:r>
              <a:rPr b="0" lang="de-DE" sz="1800" spc="-1" strike="noStrike">
                <a:solidFill>
                  <a:srgbClr val="000000"/>
                </a:solidFill>
                <a:latin typeface="Arial"/>
              </a:rPr>
              <a:t> Welche Ansprüche hat das Unternehmen erworben?</a:t>
            </a:r>
            <a:endParaRPr b="0" lang="en-US" sz="1800" spc="-1" strike="noStrike">
              <a:solidFill>
                <a:srgbClr val="000000"/>
              </a:solidFill>
              <a:latin typeface="Arial"/>
            </a:endParaRPr>
          </a:p>
          <a:p>
            <a:pPr marL="339480" indent="-339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lagevermögen: Immobilien, Maschinen…</a:t>
            </a:r>
            <a:endParaRPr b="0" lang="en-US" sz="1600" spc="-1" strike="noStrike">
              <a:solidFill>
                <a:srgbClr val="000000"/>
              </a:solidFill>
              <a:latin typeface="Arial"/>
            </a:endParaRPr>
          </a:p>
          <a:p>
            <a:pPr marL="339480" indent="-339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laufvermögen:  Lagervorrat, Wechselgeld…</a:t>
            </a:r>
            <a:endParaRPr b="0" lang="en-US" sz="16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hts: Passiva(Finanzierung) </a:t>
            </a:r>
            <a:r>
              <a:rPr b="0" lang="de-DE" sz="1800" spc="-1" strike="noStrike">
                <a:solidFill>
                  <a:srgbClr val="000000"/>
                </a:solidFill>
                <a:latin typeface="Wingdings"/>
                <a:ea typeface="Wingdings"/>
              </a:rPr>
              <a:t></a:t>
            </a:r>
            <a:r>
              <a:rPr b="0" lang="de-DE" sz="1800" spc="-1" strike="noStrike">
                <a:solidFill>
                  <a:srgbClr val="000000"/>
                </a:solidFill>
                <a:latin typeface="Arial"/>
              </a:rPr>
              <a:t> Wie wurden die Ansprüche finanziert? </a:t>
            </a:r>
            <a:endParaRPr b="0" lang="en-US" sz="1800" spc="-1" strike="noStrike">
              <a:solidFill>
                <a:srgbClr val="000000"/>
              </a:solidFill>
              <a:latin typeface="Arial"/>
            </a:endParaRPr>
          </a:p>
          <a:p>
            <a:pPr marL="339480" indent="-339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igenkapital</a:t>
            </a:r>
            <a:endParaRPr b="0" lang="en-US" sz="1600" spc="-1" strike="noStrike">
              <a:solidFill>
                <a:srgbClr val="000000"/>
              </a:solidFill>
              <a:latin typeface="Arial"/>
            </a:endParaRPr>
          </a:p>
          <a:p>
            <a:pPr marL="339480" indent="-339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remdkapital: Bankkredit, Hypotheken..</a:t>
            </a:r>
            <a:endParaRPr b="0" lang="en-US" sz="16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ktiva = Passiva </a:t>
            </a:r>
            <a:endParaRPr b="0" lang="en-US" sz="16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8" descr="C:\Programme\Microsoft Office\MEDIA\CAGCAT10\j0300840.wmf"/>
          <p:cNvPicPr/>
          <p:nvPr/>
        </p:nvPicPr>
        <p:blipFill>
          <a:blip r:embed="rId1"/>
          <a:stretch/>
        </p:blipFill>
        <p:spPr>
          <a:xfrm>
            <a:off x="6715080" y="512280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dalla</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57"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lanz</a:t>
            </a:r>
            <a:endParaRPr b="0" lang="en-US" sz="1000" spc="-1" strike="noStrike">
              <a:solidFill>
                <a:srgbClr val="000000"/>
              </a:solidFill>
              <a:latin typeface="Times New Roman"/>
            </a:endParaRPr>
          </a:p>
        </p:txBody>
      </p:sp>
      <p:sp>
        <p:nvSpPr>
          <p:cNvPr id="58"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0818-3F6D-4A8D-94C3-75E79DBAF40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60"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Robotererzeugungs</a:t>
            </a:r>
            <a:r>
              <a:rPr b="0" i="1" lang="de-DE" sz="1800" spc="-1" strike="noStrike">
                <a:solidFill>
                  <a:srgbClr val="000000"/>
                </a:solidFill>
                <a:latin typeface="Arial"/>
              </a:rPr>
              <a:t>-GmbH besitzt </a:t>
            </a:r>
            <a:r>
              <a:rPr b="0" lang="de-DE" sz="1800" spc="-1" strike="noStrike">
                <a:solidFill>
                  <a:srgbClr val="000000"/>
                </a:solidFill>
                <a:latin typeface="Arial"/>
              </a:rPr>
              <a:t>ein Fabriksgebäude im Wert von EUR 4.000.000. Die Fabrik besitzt eine Ausstattung im Wert von 2.000.000 Euro. Das Unternehmen wurde mit Hilfe eines Bankkredits in Höhe von EUR 2.4000.000 und durch die Einlagen von fünf Gesellschafter in Höhe von EUR 4.000.000 finanziert. Außerdem bezieht das Unternehmen einen Liferantenkredit in Höhe von EUR 200.000.Zusätzlich gibt es Rückstellungen für Schadenersatz in Höhe von EUR 400.000. Das Lager ist mit Waren im Wert von EUR 300.000 befüllt. Die GmbH besitzt zehn Firmenwagen im Wert von EUR 3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ga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0" lang="de-DE" sz="1800" spc="-1" strike="noStrike">
                <a:solidFill>
                  <a:srgbClr val="000000"/>
                </a:solidFill>
                <a:latin typeface="Arial"/>
              </a:rPr>
              <a:t>Erstellen Sie aus diesen Angaben eine Bilanz für das Jah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009</a:t>
            </a:r>
            <a:endParaRPr b="0" lang="en-US" sz="1800" spc="-1" strike="noStrike">
              <a:solidFill>
                <a:srgbClr val="000000"/>
              </a:solidFill>
              <a:latin typeface="Arial"/>
            </a:endParaRPr>
          </a:p>
        </p:txBody>
      </p:sp>
      <p:pic>
        <p:nvPicPr>
          <p:cNvPr id="61" name="Picture 8" descr="C:\Programme\Microsoft Office\MEDIA\CAGCAT10\j0187423.wmf"/>
          <p:cNvPicPr/>
          <p:nvPr/>
        </p:nvPicPr>
        <p:blipFill>
          <a:blip r:embed="rId1"/>
          <a:stretch/>
        </p:blipFill>
        <p:spPr>
          <a:xfrm>
            <a:off x="571680" y="1601640"/>
            <a:ext cx="1761840" cy="182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63" name="Datumsplatzhalter 3"/>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dalla</a:t>
            </a:r>
            <a:endParaRPr b="0" lang="en-US" sz="1000" spc="-1" strike="noStrike">
              <a:solidFill>
                <a:srgbClr val="000000"/>
              </a:solidFill>
              <a:latin typeface="Times New Roman"/>
            </a:endParaRPr>
          </a:p>
        </p:txBody>
      </p:sp>
      <p:sp>
        <p:nvSpPr>
          <p:cNvPr id="64" name="Fußzeilenplatzhalter 4"/>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ilanz</a:t>
            </a:r>
            <a:endParaRPr b="0" lang="en-US" sz="1000" spc="-1" strike="noStrike">
              <a:solidFill>
                <a:srgbClr val="000000"/>
              </a:solidFill>
              <a:latin typeface="Times New Roman"/>
            </a:endParaRPr>
          </a:p>
        </p:txBody>
      </p:sp>
      <p:sp>
        <p:nvSpPr>
          <p:cNvPr id="65" name="Foliennummernplatzhalter 5"/>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BBF5-3D56-45E7-9BDE-811CFC646B75}"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5"/>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5"/>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8"/>
          <p:cNvSpPr/>
          <p:nvPr/>
        </p:nvSpPr>
        <p:spPr>
          <a:xfrm>
            <a:off x="0" y="10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 name="Rectangle 2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21"/>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6"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2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8"/>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 name="Rectangle 3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31"/>
          <p:cNvSpPr/>
          <p:nvPr/>
        </p:nvSpPr>
        <p:spPr>
          <a:xfrm>
            <a:off x="0" y="12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2"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34"/>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4" name="Rectangle 3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7"/>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7" name=""/>
          <p:cNvGraphicFramePr/>
          <p:nvPr/>
        </p:nvGraphicFramePr>
        <p:xfrm>
          <a:off x="1905120" y="1500120"/>
          <a:ext cx="7086600" cy="3754440"/>
        </p:xfrm>
        <a:graphic>
          <a:graphicData uri="http://schemas.openxmlformats.org/drawingml/2006/table">
            <a:tbl>
              <a:tblPr/>
              <a:tblGrid>
                <a:gridCol w="3543120"/>
                <a:gridCol w="3543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ktiva/Vermöge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assiva/Kapit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4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nlagevermöge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briksgebäude                4.000.000                </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briksaustattung             2.000.000</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rmenwagen                       300.000</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Umlaufvermögen     </a:t>
                      </a:r>
                      <a:r>
                        <a:rPr b="0" i="1" lang="de-DE" sz="1400" spc="-1" strike="noStrike">
                          <a:solidFill>
                            <a:srgbClr val="000000"/>
                          </a:solidFill>
                          <a:latin typeface="Arial"/>
                        </a:rPr>
                        <a:t>  </a:t>
                      </a:r>
                      <a:r>
                        <a:rPr b="0" i="1" lang="de-DE" sz="1600" spc="-1" strike="noStrike">
                          <a:solidFill>
                            <a:srgbClr val="000000"/>
                          </a:solidFill>
                          <a:latin typeface="Arial"/>
                        </a:rPr>
                        <a:t>  </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vorrat                          300.000         </a:t>
                      </a:r>
                      <a:r>
                        <a:rPr b="0" i="1" lang="de-DE"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igenkap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lagen                     4.000.000 </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Fremdkapital</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nkkredit                  2.000.000                           </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eferantenkredit            200.000</a:t>
                      </a:r>
                      <a:endParaRPr b="0" lang="en-US" sz="16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ückstellungen              400.0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88" name="Rechteck 33"/>
          <p:cNvSpPr/>
          <p:nvPr/>
        </p:nvSpPr>
        <p:spPr>
          <a:xfrm>
            <a:off x="1905120" y="5214960"/>
            <a:ext cx="360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esamtvermögen             6.600.000</a:t>
            </a:r>
            <a:r>
              <a:rPr b="1"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Rechteck 34"/>
          <p:cNvSpPr/>
          <p:nvPr/>
        </p:nvSpPr>
        <p:spPr>
          <a:xfrm>
            <a:off x="5501160" y="5307120"/>
            <a:ext cx="363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esamtkapital    6.600.000               </a:t>
            </a:r>
            <a:endParaRPr b="0" lang="en-US" sz="1800" spc="-1" strike="noStrike">
              <a:solidFill>
                <a:srgbClr val="000000"/>
              </a:solidFill>
              <a:latin typeface="Times New Roman"/>
            </a:endParaRPr>
          </a:p>
        </p:txBody>
      </p:sp>
      <p:pic>
        <p:nvPicPr>
          <p:cNvPr id="90" name="Picture 32" descr="C:\Programme\Microsoft Office\MEDIA\CAGCAT10\j0222021.wmf"/>
          <p:cNvPicPr/>
          <p:nvPr/>
        </p:nvPicPr>
        <p:blipFill>
          <a:blip r:embed="rId1"/>
          <a:stretch/>
        </p:blipFill>
        <p:spPr>
          <a:xfrm>
            <a:off x="7715160" y="5500800"/>
            <a:ext cx="1049400" cy="105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MR. Untouchable</cp:lastModifiedBy>
  <dcterms:modified xsi:type="dcterms:W3CDTF">2010-04-25T23:54:36Z</dcterms:modified>
  <cp:revision>2127</cp:revision>
  <dc:subject/>
  <dc:title>PowerPoint-Präsentation</dc:title>
</cp:coreProperties>
</file>