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D4C-C80F-4337-903D-61E94D9C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33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7083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5120" y="3837240"/>
            <a:ext cx="7083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7FBF-D19D-4D4E-A87C-028500B9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33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4640" y="1371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5120" y="3837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4640" y="3837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C5F2-1CEB-4034-85F0-6384E831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33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228060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200" y="1371240"/>
            <a:ext cx="228060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5280" y="1371240"/>
            <a:ext cx="228060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5120" y="3837240"/>
            <a:ext cx="228060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200" y="3837240"/>
            <a:ext cx="228060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5280" y="3837240"/>
            <a:ext cx="228060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CA1B-D487-4486-A150-8C1AABD6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33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5120" y="1371240"/>
            <a:ext cx="7083360" cy="472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8D27-ABAB-4282-8A2A-3B458810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33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708336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840A-0059-4799-A881-D4E89B18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33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345636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4640" y="1371240"/>
            <a:ext cx="345636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510F-7138-434C-B82F-350A0806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33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334C-EE0F-4720-B1B8-B01B18FC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5120" y="136440"/>
            <a:ext cx="7083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7111-D963-4A8A-88A7-F52DC8FA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33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4640" y="1371240"/>
            <a:ext cx="345636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5120" y="3837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FBEC-F984-4D42-9311-AA9D7259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33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345636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4640" y="1371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4640" y="3837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26B3-5407-45F4-80BF-6DFAAFD0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33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4640" y="1371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5120" y="3837240"/>
            <a:ext cx="7083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3679-77C6-4569-B506-091285E0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36440"/>
            <a:ext cx="70833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1371240"/>
            <a:ext cx="708336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00360" y="6119280"/>
            <a:ext cx="190152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5656"/>
              </a:gs>
              <a:gs pos="100000">
                <a:srgbClr val="0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551640" y="611928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5400360" y="6119280"/>
            <a:ext cx="19018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C3D98-AFE6-4926-B378-39ECB63C5766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  <a:ea typeface="Arial"/>
              </a:rPr>
              <a:t>Liquidität 3. Gra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ahofer Fab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091033002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quidität 3. Grad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856F-F65A-4B98-A352-8350761C42A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hofer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70866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16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Liquidität ist die Zahlungsfähigke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Liquidität ist die Voraussetzung für 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Überleben des Unternehm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Liquidität 3. Grades berücksichtigt die läng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Zeitspan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Liquidität 3. Grades sollte größer gl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150% s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quidität 3. Grad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33E8-33BA-4013-8BC5-0D525D5DB49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hofer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5120" y="88560"/>
            <a:ext cx="70848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5120" y="1334880"/>
            <a:ext cx="70848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as Unternehmen GrenzStabil möchte wissen zu welchem Anteil das kurz- und mittelfristige Fremdkapital durch das Umlaufvermögen gedeckt i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azu werden folgende Daten verwend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86040" indent="-5130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Flüssige Mittel: 60.0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86040" indent="-5130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fr. Forderungen: 32.0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86040" indent="-5130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orräte: 18.0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86040" indent="-5130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fr. Verbindlichkeiten: 70.0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Zur Berechnung dient die Liquidität 3. Gr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quidität 3. Grad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C544-C287-4DC1-B3F7-BF4A54BFE8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hofer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5120" y="88560"/>
            <a:ext cx="70848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800360" y="1440000"/>
                <a:ext cx="71992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iquidität</m:t>
                    </m:r>
                    <m:r>
                      <m:t xml:space="preserve">3.</m:t>
                    </m:r>
                    <m:r>
                      <m:t xml:space="preserve">Grad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assa</m:t>
                        </m:r>
                        <m:r>
                          <m:t xml:space="preserve">+</m:t>
                        </m:r>
                        <m:r>
                          <m:t xml:space="preserve">Bankguthaben</m:t>
                        </m:r>
                        <m:r>
                          <m:t xml:space="preserve">+</m:t>
                        </m:r>
                        <m:r>
                          <m:t xml:space="preserve">Wertpapiere</m:t>
                        </m:r>
                        <m:r>
                          <m:t xml:space="preserve">des</m:t>
                        </m:r>
                        <m:r>
                          <m:t xml:space="preserve">UV</m:t>
                        </m:r>
                        <m:r>
                          <m:t xml:space="preserve">+</m:t>
                        </m:r>
                        <m:r>
                          <m:t xml:space="preserve">kfr</m:t>
                        </m:r>
                        <m:r>
                          <m:t xml:space="preserve">.</m:t>
                        </m:r>
                        <m:r>
                          <m:t xml:space="preserve">Forderungen</m:t>
                        </m:r>
                        <m:r>
                          <m:t xml:space="preserve">+</m:t>
                        </m:r>
                        <m:r>
                          <m:t xml:space="preserve">Vorräte</m:t>
                        </m:r>
                      </m:num>
                      <m:den>
                        <m:r>
                          <m:t xml:space="preserve">kfr</m:t>
                        </m:r>
                        <m:r>
                          <m:t xml:space="preserve">.</m:t>
                        </m:r>
                        <m:r>
                          <m:t xml:space="preserve">Verbindlichkeiten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800360" y="2160720"/>
                <a:ext cx="50641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iquidität</m:t>
                    </m:r>
                    <m:r>
                      <m:t xml:space="preserve">3.</m:t>
                    </m:r>
                    <m:r>
                      <m:t xml:space="preserve">Grad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lüssige</m:t>
                        </m:r>
                        <m:r>
                          <m:t xml:space="preserve">Mittel</m:t>
                        </m:r>
                        <m:r>
                          <m:t xml:space="preserve">+</m:t>
                        </m:r>
                        <m:r>
                          <m:t xml:space="preserve">kfr</m:t>
                        </m:r>
                        <m:r>
                          <m:t xml:space="preserve">.</m:t>
                        </m:r>
                        <m:r>
                          <m:t xml:space="preserve">Forderungen</m:t>
                        </m:r>
                        <m:r>
                          <m:t xml:space="preserve">+</m:t>
                        </m:r>
                        <m:r>
                          <m:t xml:space="preserve">Vorräte</m:t>
                        </m:r>
                      </m:num>
                      <m:den>
                        <m:r>
                          <m:t xml:space="preserve">kfr</m:t>
                        </m:r>
                        <m:r>
                          <m:t xml:space="preserve">.</m:t>
                        </m:r>
                        <m:r>
                          <m:t xml:space="preserve">Verbindlichkeiten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800360" y="2879640"/>
                <a:ext cx="37764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iquidität</m:t>
                    </m:r>
                    <m:r>
                      <m:t xml:space="preserve">3.</m:t>
                    </m:r>
                    <m:r>
                      <m:t xml:space="preserve">Grad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0.000</m:t>
                        </m:r>
                        <m:r>
                          <m:t xml:space="preserve">+</m:t>
                        </m:r>
                        <m:r>
                          <m:t xml:space="preserve">32.000</m:t>
                        </m:r>
                        <m:r>
                          <m:t xml:space="preserve">+</m:t>
                        </m:r>
                        <m:r>
                          <m:t xml:space="preserve">18.000</m:t>
                        </m:r>
                      </m:num>
                      <m:den>
                        <m:r>
                          <m:t xml:space="preserve">70.00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800360" y="3600360"/>
                <a:ext cx="41670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iquidität</m:t>
                    </m:r>
                    <m:r>
                      <m:t xml:space="preserve">3.</m:t>
                    </m:r>
                    <m:r>
                      <m:t xml:space="preserve">Grad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10.000</m:t>
                        </m:r>
                      </m:num>
                      <m:den>
                        <m:r>
                          <m:t xml:space="preserve">70.00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100</m:t>
                    </m:r>
                    <m:r>
                      <m:t xml:space="preserve">=</m:t>
                    </m:r>
                    <m:r>
                      <m:t xml:space="preserve">157,143</m:t>
                    </m:r>
                    <m:r>
                      <m:rPr>
                        <m:lit/>
                        <m:nor/>
                      </m:rPr>
                      <m:t xml:space="preserve">% </m:t>
                    </m:r>
                    <m:r>
                      <m:t xml:space="preserve">⩾</m:t>
                    </m:r>
                    <m:r>
                      <m:rPr>
                        <m:lit/>
                        <m:nor/>
                      </m:rPr>
                      <m:t xml:space="preserve"> </m:t>
                    </m:r>
                    <m:r>
                      <m:t xml:space="preserve">1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905120" y="1415880"/>
            <a:ext cx="70848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as kurz- und mittelfristige Fremdkapital wird zu mehr als 150% durch das Umlaufvermögen gedec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ie Zahlungsfähigkeit ist somit gewährleist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quidität 3. Grad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BE8-25F8-401D-9CCA-0B5D8DF4C7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ahofer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ITS</cp:lastModifiedBy>
  <dcterms:modified xsi:type="dcterms:W3CDTF">2010-02-17T10:17:05Z</dcterms:modified>
  <cp:revision>2097</cp:revision>
  <dc:subject/>
  <dc:title>PowerPoint-Präsentation</dc:title>
</cp:coreProperties>
</file>