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994-D6AD-4028-9CED-A9436B54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199-CBB6-4906-8BB3-8154FD1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937-A4BF-4AEA-81A5-DDB386A1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B10-112B-4250-A0C9-68825E00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415-0893-42C9-B66F-36C1B71D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DD2-12D9-408D-AD12-798B7328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E10-E796-40D9-988D-7C6A6F6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78D-F5CA-4984-87B4-FBF3BEAC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558-6EF2-43CC-9973-8A8D12C5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868-8FE9-4454-9CF0-A6A08E36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DAB-C272-475B-A2F3-8FA4049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E56-5500-4D3A-86A4-51052C3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4B13-C93F-4950-9FB2-24BB558A59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E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60C-9EA9-4042-9310-C67D45D9C7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75F-931E-4897-922D-5633B4788E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Amortisationsrechnung (Saldenkurv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reas E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3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 (Saldenkur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E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Saldenkur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6B4-A073-4B2C-8697-8A38C1FC1A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dient der Ermittlung der Kapitalbindungsdauer einer Invest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aldenkurve zeigt die Dauer „a“ vom Beginn der Investition bis zum Eintritt von Übersch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der Saldenkurve wird keine Abzinsung berücksichtig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nur Überschlags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guläre Kumulationsme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3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…Saldo; E…Einzahlungen; A…Auszahlungen; t…Nutzungsd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ale Kumualtionsmethode</a:t>
            </a: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428920" y="4214880"/>
            <a:ext cx="19605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E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685800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vergleichsrec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Saldenkur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0863-0770-4144-B2C5-9EEAD449B9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71400" y="137124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Fa. Wohnfreund installiert für eine große Wohnanlage eine Satellitenanlage. Einzahlungen und Auszahlungen sind aus den Tabellen zu entnehmen. Die   Nutzungsdauer beträgt 6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bo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gebo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llen Sie „S“ und „a“ jeweils gegenü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00280" y="2928960"/>
          <a:ext cx="5177160" cy="1482840"/>
        </p:xfrm>
        <a:graphic>
          <a:graphicData uri="http://schemas.openxmlformats.org/drawingml/2006/table">
            <a:tbl>
              <a:tblPr/>
              <a:tblGrid>
                <a:gridCol w="524160"/>
                <a:gridCol w="1009440"/>
                <a:gridCol w="1071720"/>
                <a:gridCol w="571320"/>
                <a:gridCol w="1000080"/>
                <a:gridCol w="1000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500280" y="4500720"/>
          <a:ext cx="5177160" cy="1482480"/>
        </p:xfrm>
        <a:graphic>
          <a:graphicData uri="http://schemas.openxmlformats.org/drawingml/2006/table">
            <a:tbl>
              <a:tblPr/>
              <a:tblGrid>
                <a:gridCol w="524160"/>
                <a:gridCol w="1009440"/>
                <a:gridCol w="1071720"/>
                <a:gridCol w="571320"/>
                <a:gridCol w="1000080"/>
                <a:gridCol w="10004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[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[€/a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dreas Ei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FF98-6B11-475C-8EBC-3A33EFCB5B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9"/>
          <p:cNvSpPr/>
          <p:nvPr/>
        </p:nvSpPr>
        <p:spPr>
          <a:xfrm>
            <a:off x="7083360" y="6324480"/>
            <a:ext cx="19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 (Saldenkur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1905120" y="1514520"/>
            <a:ext cx="3362040" cy="469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5629320" y="1428840"/>
            <a:ext cx="3362400" cy="4776840"/>
          </a:xfrm>
          <a:prstGeom prst="rect">
            <a:avLst/>
          </a:prstGeom>
          <a:ln w="0">
            <a:noFill/>
          </a:ln>
        </p:spPr>
      </p:pic>
      <p:sp>
        <p:nvSpPr>
          <p:cNvPr id="70" name="Textfeld 8"/>
          <p:cNvSpPr/>
          <p:nvPr/>
        </p:nvSpPr>
        <p:spPr>
          <a:xfrm rot="16200000">
            <a:off x="1999800" y="194616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aldo in 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feld 9"/>
          <p:cNvSpPr/>
          <p:nvPr/>
        </p:nvSpPr>
        <p:spPr>
          <a:xfrm rot="16200000">
            <a:off x="5739840" y="186048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aldo in 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feld 10"/>
          <p:cNvSpPr/>
          <p:nvPr/>
        </p:nvSpPr>
        <p:spPr>
          <a:xfrm>
            <a:off x="4260600" y="335772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Zeit in Jah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feld 11"/>
          <p:cNvSpPr/>
          <p:nvPr/>
        </p:nvSpPr>
        <p:spPr>
          <a:xfrm>
            <a:off x="8046720" y="357192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Zeit in Jah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feld 12"/>
          <p:cNvSpPr/>
          <p:nvPr/>
        </p:nvSpPr>
        <p:spPr>
          <a:xfrm>
            <a:off x="6967080" y="168120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 = 114.500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 = 5Jah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feld 13"/>
          <p:cNvSpPr/>
          <p:nvPr/>
        </p:nvSpPr>
        <p:spPr>
          <a:xfrm>
            <a:off x="3202200" y="16923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S = 46.400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a = 4Jah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Andreas Eiler</cp:lastModifiedBy>
  <dcterms:modified xsi:type="dcterms:W3CDTF">2008-01-27T00:51:56Z</dcterms:modified>
  <cp:revision>2154</cp:revision>
  <dc:subject/>
  <dc:title>PowerPoint-Präsentation</dc:title>
</cp:coreProperties>
</file>