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012-DB10-43A7-9826-F8BF85A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958-3DD9-4502-873B-E87E0712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D13-B723-4B25-B1B9-54566D14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7A5-03DE-4841-BEF4-D95E50D6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904-960A-4526-8D3E-0490404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864-A9A2-4667-8190-2A8B5A71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EF5-AAFF-4858-A894-EFF32337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699-DFB3-4360-8C40-42CD50C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2D1-C2E4-4A63-A20A-A0AD4F27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5D9-113C-4511-AA5E-AC215DB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A57-D3F2-4294-B989-80C1A35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5AC-54D0-4190-A949-DBA559B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3DF6-5DE4-4E06-8F48-CADB735CF5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AB33-F344-4F32-B3B0-454F6D3A95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Eigenkapitalrentabilitä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omislav Hauptf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7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rentabilitä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5CB-87E2-400C-B8BD-3AA4F6A9D6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omislav Haupt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 Berechnung der Rentabil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: für Entscheidung bzgl. Inves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 in Pro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 potentieller Investitionen mit risikofreien Alternat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195640" y="2631960"/>
            <a:ext cx="561960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rentabilitä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D88-312B-4794-A9C8-6EC03C2954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omislav Haupt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649520"/>
            <a:ext cx="6769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Ein Gesellschafter der Firma Bakkarat Finanzinvestment GmbH kommt mit einer größeren Summe Bargeld aus dem Urlaub an der Côte d‘Azur zurück und beschließt, seine Einlage im Unternehmen um € 10.000,- zu erhöhe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Geschäftsführung muss entscheiden, was mit diesem Eigenkapital ind den nächsten 5 Jahren geschehen sol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Google-Aktien (12% Wertsteigerung p.a., 25% KeSt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Polnische Staatsanleihen (€ 14.356,26 nach 5 Jahren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Für welche der Varianten sollte sich die Firma entscheiden und waru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rentabilitä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8B7-999E-4115-B519-1B52E63BA5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omislav Haupt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720800"/>
            <a:ext cx="67690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arian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5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€10.000 (1+(12/100)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17.623,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ntabilität pro Jah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(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5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10.000)*(3/4) / 5) / €10.000 = 1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ariante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5B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 €14.356,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ntabilität pro Jah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(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5B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10.000)/ 5) / €10.000 = 8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genkapitalrentabilitä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A59-DE29-47EC-85DE-B57B860FBA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omislav Hauptfel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TOMI</cp:lastModifiedBy>
  <dcterms:modified xsi:type="dcterms:W3CDTF">2010-04-26T14:42:33Z</dcterms:modified>
  <cp:revision>2107</cp:revision>
  <dc:subject/>
  <dc:title>PowerPoint-Präsentation</dc:title>
</cp:coreProperties>
</file>