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8C2A-E47C-4330-906B-DFF224FD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FDE-762E-405C-8923-B247B959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26C-5546-4DA2-A34C-8B380386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93C-091A-415E-AFC5-3F5DEFCD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CC3-DA25-426C-BF3E-41A0E833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B1E-95A0-49A3-8ADE-AAD934E2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950-074E-44F7-8780-093D774D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1952-6A5D-4F54-89E8-BBFB8B27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2E21-47F4-40EB-BFA1-DEBF40CC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6FB-19EE-417F-8445-19EF862D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E7E-1B0B-41B3-99C6-56811AD6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D5C-0A5B-46C9-B1C0-022A8836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033D-C44D-473D-8BD5-3677E6D3365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7C6B-EE51-4DB0-B2C3-5A76EAE408F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Kontokorrentkred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hard Piri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3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ntokorrentkred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2FE-D719-4207-996C-73A4AE1AF1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ringer G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4760" y="1267920"/>
            <a:ext cx="7086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ntokorrentkred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tellt dem Kreditnehmer einen Kreditrahmen (Limit) zur Verfügung, den er immer wieder in Anspruch nehmen ka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Konto kann sozusagen überzogen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den überzogenen Betrag zahlt man monatliche Zin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rzfristige Finanzierung (Zielverkäu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440" y="227664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ntokorrentkred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736-B56F-4AB3-896F-AA55D4A20C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ringer G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Die Firma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skimo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braucht kurz vor der Saisoneröffnung auf Grund der anstehenden Produktion ihres Eises der Sorte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Tschisi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 kurzfristig Geldmittel. Sie nehmen einen Kontokorrentkredit in Höhe von €10.000,- in Anspruch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Der Zinssatz beträgt 5% p.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Die Bereitstellungsprovision für den Kreditrahmen über €12.000,- beträgt 1/8 % pro Mona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Das Geld wird 2 Wochen später zurück gezahl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Berechnen Sie die Kosten für Eskimo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5840" y="2124000"/>
            <a:ext cx="1619280" cy="14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ntokorrentkred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18B-4C5C-48E9-B2DF-339EBFDFC9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ringer G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23840" y="1371600"/>
            <a:ext cx="3429000" cy="228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Rectangle 16"/>
              <p:cNvSpPr txBox="1"/>
              <p:nvPr/>
            </p:nvSpPr>
            <p:spPr>
              <a:xfrm>
                <a:off x="1924200" y="1670040"/>
                <a:ext cx="70675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ereitstellungsprovision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reditrahme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Zinse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ag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€</m:t>
                                </m:r>
                                <m:r>
                                  <m:t xml:space="preserve">7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−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Rectangle 16"/>
              <p:cNvSpPr txBox="1"/>
              <p:nvPr/>
            </p:nvSpPr>
            <p:spPr>
              <a:xfrm>
                <a:off x="1924200" y="3060720"/>
                <a:ext cx="46638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insen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uszahlun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Zin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ag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€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4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−</m:t>
                                </m:r>
                              </m:e>
                            </m:ba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Rectangle 16"/>
              <p:cNvSpPr txBox="1"/>
              <p:nvPr/>
            </p:nvSpPr>
            <p:spPr>
              <a:xfrm>
                <a:off x="1924200" y="4670280"/>
                <a:ext cx="583236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osten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=</m:t>
                    </m:r>
                    <m:r>
                      <m:t xml:space="preserve"> 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€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832040" y="5753160"/>
            <a:ext cx="67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Kredit für das Tschisi-Eis kostet ca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€10.026,-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1336680" cy="24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ontokorrentkred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D09A-5B44-4B24-9E23-EDABB65FCC2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iringer G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Gerhard</cp:lastModifiedBy>
  <dcterms:modified xsi:type="dcterms:W3CDTF">2010-04-23T17:49:09Z</dcterms:modified>
  <cp:revision>2110</cp:revision>
  <dc:subject/>
  <dc:title>PowerPoint-Präsentation</dc:title>
</cp:coreProperties>
</file>