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AA0B-9954-4008-80CE-C3262C6C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0FCE-DC03-4635-9718-EB0F9D2B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A0C-BE89-4175-B365-73C2A640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5FD-138A-4497-BA83-2840B2F3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2D6-1B92-4D13-8FAA-3CF72BC7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E14-8D59-4AEA-9C0B-C93F1F6B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509-B76E-4F74-AA22-A4D983F3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68F-0F1C-4A93-82F7-904331A7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088-0B2B-4426-81EE-AA40D6DA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171-7CDC-48DD-824C-2B2225DF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EE07-553F-4BAA-ADEE-C3B70EF1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EEA1-538E-41B8-A7CB-44FDE26D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61DD-9EA0-4D7A-85C3-5F01ACC2DE8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rin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nusssche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7294-5DA6-4860-9C7C-313B1EE0B95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3908-E940-409F-B690-C436C99A5F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Genusssche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rnhard Trin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1903300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FA29-0984-4072-A8E6-D3EC030A0F6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Genussschein ist ein gesetzlich nicht geregeltes Wertpapier, ein Zwitter zwischen Aktie und Anlei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Unternehmer hat großen Spielraum bei der Auslegung und Gestaltung von Genusschei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Inhaber eines Genussscheines ist Gläubiger des Unternehmens, meist erhält er neben fixe Zinsen auch eine Beteiligung am Gewi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Inhaber hat kein Mitspracherecht am Firmengeschehen 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gen- und Fremdkapitalcharaktaristik (Mazzanine-Finanzier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5E79-E569-48B8-8001-C44378A981C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örnsman Amplifikation Ges.m.b.h gibt zur Geldbeschaffung Genussscheine von 22 Mio. € aus mit 6% jährliche Verzinsung und 20% Gewinnbeteiligung und 5 Jahre Laufze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cher Betrag wird im ersten Jahr ausgezahlt, bei einem Gewinn von 55 Mio.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uszahlung=Gewinn*Gewinnbeteiligung[%]       +Grundbetrag*Fixverzinsung[%]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che Rendite[%] erhält der Inha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ndite=Auszahlung/Grundbetrag*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9709-2695-43B5-BAB6-B865D27B745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zahlung=55mio*20%+22mio*6%=   12.32mio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ndite=12.32mio/22mio*100%=                    5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6:17:18Z</dcterms:created>
  <dc:creator>Daniel Franz Leutgeb</dc:creator>
  <dc:description/>
  <dc:language>en-US</dc:language>
  <cp:lastModifiedBy>Bernhard Trinnes</cp:lastModifiedBy>
  <dcterms:modified xsi:type="dcterms:W3CDTF">2010-04-25T09:14:05Z</dcterms:modified>
  <cp:revision>2111</cp:revision>
  <dc:subject/>
  <dc:title>PowerPoint-Präsentation</dc:title>
</cp:coreProperties>
</file>