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64C-EFC5-43C9-B898-35033FEF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790-9FE9-42A1-AADA-D1F9167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D1C-3DE0-4B02-86C4-31FC6D00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595-5DD8-4C74-AA79-3D089C7A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EB3-A946-4066-A77A-0626D64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DF6-65B1-4D33-831B-1A6C7F8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5AD-A73D-4BAE-8AEA-7D0A148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9E4-2235-4A52-81BB-F876CCAC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7F4-B40D-40FA-931C-C720513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8AC-4F9B-4F8B-91F4-F42369F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318-3E10-49D4-87FA-10C8928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D7F-B4EF-4C2C-B883-B0210A8E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E4F-8F61-4FE0-AFB8-DB72660AFF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rald Fürnw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31B-D87C-4F40-B5FD-4D4C044D01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6774-DD34-49E7-A569-59D8057D40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Interner Zinsfuß (graphis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rald Fürnw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7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erner Zinsfuß (graph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Gerald Fürnw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erner Zinsfuß (graph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C33-DBD5-4EF6-A1E2-7CE6653C84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6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Interne Zinsfußmethode (Internal-Rate-of-Return-Methode) ist ein Verfahren der dynamischen Investitionsrechnu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interne Zinsfuß bezeichnet den Zinssatz, welcher beim Abzinsen der Überschüsse zu einem Kapitalwert von Null füh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Investition ist dann vorteilhaft, wenn der interne Zinsfuß über einer gewissen Mindestverzinsung lieg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ehen mehrere Alternativen zur Verfügung, wird jene mit dem größten internen Zinsfuß gewäh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echnung lt. Formel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raphische Berechn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en der Kapitalwerte auf der Horizonta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en der Zinswerte auf der Vertika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tragen der Variante/Vari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binden der Punkte (bzw. erweitern der Linie zur Grenze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lesen des internen Zinsfußes auf der Zinssk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429080" y="3357720"/>
                <a:ext cx="1800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feld 9"/>
          <p:cNvSpPr/>
          <p:nvPr/>
        </p:nvSpPr>
        <p:spPr>
          <a:xfrm>
            <a:off x="6659640" y="3278160"/>
            <a:ext cx="1842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p = interner Zinsfuß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p1 = Versuchszinssatz 1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K1 = Kapitalwert bei p1 (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p2 = Versuchszinssatz 2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K2 = Kapitalwert bei p2 (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rald Fürnw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erner Zinsfuß (graph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C7A1-A794-48CD-A07F-CEB804B1B5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InterRail AG möchte zur Erweiterung ihres Fuhrparks eine neue Zuglock kaufen. Für 2 Angebote stehen die Kapitalwerte mit jeweils 2 Zinssätzen zur Verfüg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für den Vorstand eine Entscheidungshilfe zu bilden, sollen die internen Zinsfüße beider Varianten berechn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57280" y="3251160"/>
          <a:ext cx="6096240" cy="1114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ins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gebo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gebo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3130560"/>
            <a:ext cx="1341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umsplatzhalter 3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rald Fürnw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ußzeilenplatzhalter 4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terner Zinsfuß (graph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liennummernplatzhalter 5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5581-CAFD-4A37-A9AA-4B7745B2A0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82760" y="2781360"/>
            <a:ext cx="11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Zinssatz[%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0440" y="5043600"/>
            <a:ext cx="126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Kapitalwert[€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116160"/>
            <a:ext cx="0" cy="187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411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4124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3835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48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3259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14120" y="3710160"/>
            <a:ext cx="289080" cy="799920"/>
            <a:chOff x="5514120" y="3710160"/>
            <a:chExt cx="289080" cy="799920"/>
          </a:xfrm>
        </p:grpSpPr>
        <p:sp>
          <p:nvSpPr>
            <p:cNvPr id="77" name=""/>
            <p:cNvSpPr/>
            <p:nvPr/>
          </p:nvSpPr>
          <p:spPr>
            <a:xfrm>
              <a:off x="5518800" y="429444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14120" y="3710160"/>
              <a:ext cx="28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512320" y="313704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84920" y="3351240"/>
            <a:ext cx="3908160" cy="922320"/>
            <a:chOff x="4984920" y="3351240"/>
            <a:chExt cx="3908160" cy="922320"/>
          </a:xfrm>
        </p:grpSpPr>
        <p:sp>
          <p:nvSpPr>
            <p:cNvPr id="81" name=""/>
            <p:cNvSpPr/>
            <p:nvPr/>
          </p:nvSpPr>
          <p:spPr>
            <a:xfrm flipH="1" flipV="1">
              <a:off x="4984920" y="3351240"/>
              <a:ext cx="390816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65880" y="3422880"/>
              <a:ext cx="91800" cy="9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75040" y="3351240"/>
            <a:ext cx="2898720" cy="968400"/>
            <a:chOff x="3875040" y="3351240"/>
            <a:chExt cx="2898720" cy="968400"/>
          </a:xfrm>
        </p:grpSpPr>
        <p:sp>
          <p:nvSpPr>
            <p:cNvPr id="84" name=""/>
            <p:cNvSpPr/>
            <p:nvPr/>
          </p:nvSpPr>
          <p:spPr>
            <a:xfrm flipH="1" flipV="1">
              <a:off x="3875040" y="3351240"/>
              <a:ext cx="289872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4080" y="3849840"/>
              <a:ext cx="92160" cy="92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168960" y="2882880"/>
            <a:ext cx="1498680" cy="406440"/>
          </a:xfrm>
          <a:prstGeom prst="wedgeRoundRectCallout">
            <a:avLst>
              <a:gd name="adj1" fmla="val -93856"/>
              <a:gd name="adj2" fmla="val 9531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=26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9760" y="5851440"/>
            <a:ext cx="243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Gerade Verbindung 9"/>
          <p:cNvSpPr/>
          <p:nvPr/>
        </p:nvSpPr>
        <p:spPr>
          <a:xfrm>
            <a:off x="2340000" y="4987800"/>
            <a:ext cx="645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491652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1200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0108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836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91652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092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9165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4699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9600" y="4935600"/>
            <a:ext cx="33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5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5040" y="4954680"/>
            <a:ext cx="36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-5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7120" y="49338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01560" y="494172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-10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95760" y="4737240"/>
            <a:ext cx="38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Times New Roman"/>
              </a:rPr>
              <a:t>10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57600" y="3511440"/>
            <a:ext cx="1676520" cy="1858320"/>
            <a:chOff x="4557600" y="3511440"/>
            <a:chExt cx="1676520" cy="1858320"/>
          </a:xfrm>
        </p:grpSpPr>
        <p:sp>
          <p:nvSpPr>
            <p:cNvPr id="116" name=""/>
            <p:cNvSpPr/>
            <p:nvPr/>
          </p:nvSpPr>
          <p:spPr>
            <a:xfrm>
              <a:off x="5464080" y="3624120"/>
              <a:ext cx="92160" cy="91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557600" y="3511440"/>
              <a:ext cx="1676520" cy="1858320"/>
              <a:chOff x="4557600" y="3511440"/>
              <a:chExt cx="1676520" cy="1858320"/>
            </a:xfrm>
          </p:grpSpPr>
          <p:sp>
            <p:nvSpPr>
              <p:cNvPr id="118" name=""/>
              <p:cNvSpPr/>
              <p:nvPr/>
            </p:nvSpPr>
            <p:spPr>
              <a:xfrm>
                <a:off x="5464080" y="4078440"/>
                <a:ext cx="92160" cy="91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1800" y="395460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90000" y="3511440"/>
                <a:ext cx="36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557600" y="3621240"/>
                <a:ext cx="1676520" cy="1748520"/>
                <a:chOff x="4557600" y="3621240"/>
                <a:chExt cx="1676520" cy="1748520"/>
              </a:xfrm>
            </p:grpSpPr>
            <p:sp>
              <p:nvSpPr>
                <p:cNvPr id="122" name=""/>
                <p:cNvSpPr/>
                <p:nvPr/>
              </p:nvSpPr>
              <p:spPr>
                <a:xfrm flipV="1">
                  <a:off x="6027840" y="5033880"/>
                  <a:ext cx="114120" cy="11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4557600" y="3621240"/>
                  <a:ext cx="1676520" cy="1748520"/>
                  <a:chOff x="4557600" y="3621240"/>
                  <a:chExt cx="1676520" cy="174852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4557600" y="3621240"/>
                    <a:ext cx="1676520" cy="1748520"/>
                    <a:chOff x="4557600" y="3621240"/>
                    <a:chExt cx="1676520" cy="17485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5511960" y="4125960"/>
                      <a:ext cx="6760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792680" y="3668760"/>
                      <a:ext cx="711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V="1">
                      <a:off x="4792680" y="3668760"/>
                      <a:ext cx="0" cy="1319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flipV="1">
                      <a:off x="6188040" y="4125960"/>
                      <a:ext cx="0" cy="86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557600" y="4971960"/>
                      <a:ext cx="51912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5708880" y="5062680"/>
                      <a:ext cx="45972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141960" y="4079880"/>
                      <a:ext cx="92160" cy="921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745160" y="3621240"/>
                      <a:ext cx="91800" cy="91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360" bIns="18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"/>
                  <p:cNvSpPr/>
                  <p:nvPr/>
                </p:nvSpPr>
                <p:spPr>
                  <a:xfrm>
                    <a:off x="4745160" y="4941720"/>
                    <a:ext cx="91800" cy="921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141960" y="4941720"/>
                    <a:ext cx="92160" cy="921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5" name=""/>
          <p:cNvGrpSpPr/>
          <p:nvPr/>
        </p:nvGrpSpPr>
        <p:grpSpPr>
          <a:xfrm>
            <a:off x="5508720" y="3624120"/>
            <a:ext cx="3012480" cy="1767600"/>
            <a:chOff x="5508720" y="3624120"/>
            <a:chExt cx="3012480" cy="1767600"/>
          </a:xfrm>
        </p:grpSpPr>
        <p:sp>
          <p:nvSpPr>
            <p:cNvPr id="136" name=""/>
            <p:cNvSpPr/>
            <p:nvPr/>
          </p:nvSpPr>
          <p:spPr>
            <a:xfrm>
              <a:off x="5526000" y="412416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08720" y="366696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263080" y="41238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353280" y="366660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3680" y="5084640"/>
              <a:ext cx="45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Times New Roman"/>
                </a:rPr>
                <a:t>29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480" y="5024160"/>
              <a:ext cx="45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400" spc="-1" strike="noStrike">
                  <a:solidFill>
                    <a:srgbClr val="000000"/>
                  </a:solidFill>
                  <a:latin typeface="Times New Roman"/>
                </a:rPr>
                <a:t>97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07200" y="3624120"/>
              <a:ext cx="92160" cy="91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0240" y="4078080"/>
              <a:ext cx="91800" cy="92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399360" y="5043240"/>
              <a:ext cx="777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20240" y="4938480"/>
              <a:ext cx="91800" cy="92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7200" y="4938480"/>
              <a:ext cx="92160" cy="92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2292480" y="1413000"/>
          <a:ext cx="6095880" cy="11142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ins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gebo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gebo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0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132000" y="3954600"/>
            <a:ext cx="1511280" cy="458640"/>
          </a:xfrm>
          <a:prstGeom prst="wedgeRoundRectCallout">
            <a:avLst>
              <a:gd name="adj1" fmla="val 107879"/>
              <a:gd name="adj2" fmla="val -6418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=18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r09b079</cp:lastModifiedBy>
  <dcterms:modified xsi:type="dcterms:W3CDTF">2010-04-20T14:47:55Z</dcterms:modified>
  <cp:revision>2122</cp:revision>
  <dc:subject/>
  <dc:title>PowerPoint-Präsentation</dc:title>
</cp:coreProperties>
</file>