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E6A-2A31-4D8A-ACE0-8D368112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DC8-65D9-4F1C-839D-6A24CCDF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FD8-5648-4AB4-8C43-04C3154A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C8E-F1D5-41FE-B477-130774D9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973-89D2-47F0-AF63-ABD2A937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14C-B9EF-41F5-BD52-E45D48DF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9D3-713F-4BCB-B030-86EC26E1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FDC-A6FC-4356-A947-EC3BF8F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0CE-4B76-4409-BC72-8E9D66BD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F38-276E-49CB-A3D5-F9E09AE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006-83F6-4C05-891F-45D4F5BA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50A-706C-42E4-83F2-A33A5548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63A-5986-4CDE-BDC4-62F599FC04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B95-0DD3-405A-B13F-139892EA73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Gewinnschuldverschreib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ÜRINGER Christ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innschuldverschreibu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FF5-8AE5-4236-B0C7-ECCD437488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HÜRINGER Christi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ewinnschuldverschreibu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Anleiheform, welche neben der Festverzinsung ein Anrecht auf einen variablen Anteil am Gewinn der Gesellschaft,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tatt der festen Zinsen einen Gewinnanteil er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haber der Gewinnschuldverschreibung ist Gläubiger, kein Miteigentü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innschuldverschreibu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8A0-7CBC-47D2-AB28-3C5925FF95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HÜRINGER Christi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eier AG vergibt eine Anleihe mit einer Festverzinsung von 5% und einer Zusatzverzinsung von 0,25% für jeden Prozentpunkt Stammaktien- Dividende über    11 % hin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n Zinssatz erhalten die Gewinnobligationäre bei einer Stammaktiendividende von 10% bzw. 14%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innschuldverschreibu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119-DE4D-4BB0-9BB6-A8E0E8489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HÜRINGER Christi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10% Stammaktiendivid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Zinssat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Fixzinssatz =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14% Stammaktiendivid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nssatz = Fixzinssatz + x * Zusatzzinssat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Zinssat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5 + 3 * 0,25 =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5,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innschuldverschreibu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47A-0635-424A-8474-45B1BA318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HÜRINGER Christia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Privat</cp:lastModifiedBy>
  <dcterms:modified xsi:type="dcterms:W3CDTF">2010-04-26T06:16:22Z</dcterms:modified>
  <cp:revision>2103</cp:revision>
  <dc:subject/>
  <dc:title>PowerPoint-Präsentation</dc:title>
</cp:coreProperties>
</file>